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8ABE-86DA-4768-B0F2-D27FD8AB1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C1AD-CA6C-4653-880A-D2911371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3CD9-0357-43A0-B983-A30B3ADE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581E-A118-4066-971E-2DFEF3E73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4235-A969-4365-83CF-6EB2055E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3ACE-5B47-4636-B4D0-1B1D33C0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2B6D-A7F0-49ED-9EE2-946E8618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8CB4-F18D-4C66-8125-E6D6A21B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8A1D-C9BB-471D-94DA-B731A27F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90D5-1324-407C-9281-689DB799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74C5-EA80-4858-BA0E-126D2260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E19E-D5F6-4F75-B127-41E33D65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409E-E580-43B1-90DC-5A6C14785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levelchemistry.co.uk/module_1.htm" TargetMode="External"/><Relationship Id="rId2" Type="http://schemas.openxmlformats.org/officeDocument/2006/relationships/hyperlink" Target="http://www.tannerm.com/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2      Gas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Avogadro’s Theor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Molar Vol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74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ll in the table below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C8H18(l) +  25 O2(g)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18  H2O(g) + 16 CO2(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1600200"/>
          <a:ext cx="8229600" cy="4492800"/>
        </p:xfrm>
        <a:graphic>
          <a:graphicData uri="http://schemas.openxmlformats.org/drawingml/2006/table">
            <a:tbl>
              <a:tblPr/>
              <a:tblGrid>
                <a:gridCol w="2090160"/>
                <a:gridCol w="2007720"/>
                <a:gridCol w="216000"/>
                <a:gridCol w="2041200"/>
                <a:gridCol w="187452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v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.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.2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 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324000" y="260280"/>
            <a:ext cx="718920" cy="72072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site with VSEP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levelchemistry.co.uk/module_1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site with 3D shapes, and a variety of inf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tannerm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lar Volu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The volume of one mole of any gas at a specific temperature and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@STP    22.4 L/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@SATP  24.8 l/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STP is zero celsius and 101.3k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SATP(ambient) is 25 celsius and 100k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2781360"/>
            <a:ext cx="720720" cy="504720"/>
          </a:xfrm>
          <a:prstGeom prst="rightArrow">
            <a:avLst>
              <a:gd name="adj1" fmla="val 50000"/>
              <a:gd name="adj2" fmla="val 35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3357720"/>
            <a:ext cx="720720" cy="502920"/>
          </a:xfrm>
          <a:prstGeom prst="rightArrow">
            <a:avLst>
              <a:gd name="adj1" fmla="val 50000"/>
              <a:gd name="adj2" fmla="val 358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835280" y="3357720"/>
            <a:ext cx="2449440" cy="172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ons with molar volu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=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v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volume             and          n=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molar volume                      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v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=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8000" y="1773360"/>
            <a:ext cx="648000" cy="360360"/>
          </a:xfrm>
          <a:prstGeom prst="leftArrow">
            <a:avLst>
              <a:gd name="adj1" fmla="val 50000"/>
              <a:gd name="adj2" fmla="val 449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8000" y="2349360"/>
            <a:ext cx="863640" cy="358920"/>
          </a:xfrm>
          <a:prstGeom prst="leftArrow">
            <a:avLst>
              <a:gd name="adj1" fmla="val 50000"/>
              <a:gd name="adj2" fmla="val 601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y thi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volume is occupied by 0.024 mol of nitrogen gas at STP?(ANS:  0.54 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moles of nitrogen dioxide are there in 75 L of the gas at SATP?(ANS: 3.02 m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y thi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volume is occupied by 0.024 mol of nitrogen gas at STP?(ANS:  0.54 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moles of nitrogen dioxide are there in 75 L of the gas at SATP?(ANS: 3.02 m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y thi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volume is occupied by 0.024 mol of nitrogen gas at STP?(ANS:  0.54 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moles of nitrogen dioxide are there in 75 L of the gas at SATP?(ANS: 3.02 m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348000" y="3716280"/>
            <a:ext cx="2519280" cy="1225440"/>
          </a:xfrm>
          <a:prstGeom prst="rec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92720" y="2708280"/>
            <a:ext cx="237636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1989000"/>
            <a:ext cx="194292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1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0.024 mol =  __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                                 22.4 L/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54 L  =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  <a:endCxn id="115" idx="0"/>
          </p:cNvCxnSpPr>
          <p:nvPr/>
        </p:nvCxnSpPr>
        <p:spPr>
          <a:xfrm>
            <a:off x="4582800" y="15570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2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=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n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75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               24.8 L/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= 3.02 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             mol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ntration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84720" y="3645000"/>
            <a:ext cx="1727280" cy="215640"/>
          </a:xfrm>
          <a:prstGeom prst="rightArrow">
            <a:avLst>
              <a:gd name="adj1" fmla="val 50000"/>
              <a:gd name="adj2" fmla="val 200250"/>
            </a:avLst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67280" y="3141720"/>
            <a:ext cx="1873080" cy="287280"/>
          </a:xfrm>
          <a:prstGeom prst="leftArrow">
            <a:avLst>
              <a:gd name="adj1" fmla="val 50000"/>
              <a:gd name="adj2" fmla="val 1630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35280" y="3141720"/>
            <a:ext cx="1728720" cy="287280"/>
          </a:xfrm>
          <a:prstGeom prst="rightArrow">
            <a:avLst>
              <a:gd name="adj1" fmla="val 50000"/>
              <a:gd name="adj2" fmla="val 1504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3640" y="3645000"/>
            <a:ext cx="1728720" cy="217440"/>
          </a:xfrm>
          <a:prstGeom prst="leftArrow">
            <a:avLst>
              <a:gd name="adj1" fmla="val 50000"/>
              <a:gd name="adj2" fmla="val 198758"/>
            </a:avLst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64000" y="4076640"/>
            <a:ext cx="287280" cy="1297080"/>
          </a:xfrm>
          <a:prstGeom prst="upArrow">
            <a:avLst>
              <a:gd name="adj1" fmla="val 50000"/>
              <a:gd name="adj2" fmla="val 112876"/>
            </a:avLst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95640" y="4149720"/>
            <a:ext cx="217440" cy="1295280"/>
          </a:xfrm>
          <a:prstGeom prst="downArrow">
            <a:avLst>
              <a:gd name="adj1" fmla="val 50000"/>
              <a:gd name="adj2" fmla="val 1489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92360" y="2060640"/>
            <a:ext cx="216000" cy="1008000"/>
          </a:xfrm>
          <a:prstGeom prst="downArrow">
            <a:avLst>
              <a:gd name="adj1" fmla="val 50000"/>
              <a:gd name="adj2" fmla="val 1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51280" y="1989000"/>
            <a:ext cx="216000" cy="1079640"/>
          </a:xfrm>
          <a:prstGeom prst="upArrow">
            <a:avLst>
              <a:gd name="adj1" fmla="val 50000"/>
              <a:gd name="adj2" fmla="val 124958"/>
            </a:avLst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w of Combining Volum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Joseph Gay –Lussac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9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measured at the same temperature and pressure, volumes of gases react in simple whole number rat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l)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) 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)  (This reaction always produced twice as much hydrogen as oxy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gaylussac.gif (42851 bytes)"/>
          <p:cNvPicPr/>
          <p:nvPr/>
        </p:nvPicPr>
        <p:blipFill>
          <a:blip r:embed="rId1"/>
          <a:stretch/>
        </p:blipFill>
        <p:spPr>
          <a:xfrm>
            <a:off x="6300720" y="2754360"/>
            <a:ext cx="2594160" cy="410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volume of balloons does 7.00 g of helium gas fill  at  SATP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6920" y="4005360"/>
            <a:ext cx="80661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=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= 7.00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= 4.00 g/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= 24.8 L/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04000" y="602136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ns 43.4 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se Ques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210-2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771640" y="1557360"/>
          <a:ext cx="3961080" cy="4392720"/>
        </p:xfrm>
        <a:graphic>
          <a:graphicData uri="http://schemas.openxmlformats.org/drawingml/2006/table">
            <a:tbl>
              <a:tblPr/>
              <a:tblGrid>
                <a:gridCol w="844560"/>
                <a:gridCol w="3116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3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9 x 10 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9 x 10 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 x 10 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 k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5L ,  163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2340000" y="4149720"/>
            <a:ext cx="360360" cy="3603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40000" y="4724280"/>
            <a:ext cx="358920" cy="4334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40000" y="5373720"/>
            <a:ext cx="360360" cy="431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6021360"/>
            <a:ext cx="503280" cy="620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03280" y="609300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o use rat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Electrolysis of water"/>
          <p:cNvPicPr/>
          <p:nvPr/>
        </p:nvPicPr>
        <p:blipFill>
          <a:blip r:embed="rId1"/>
          <a:stretch/>
        </p:blipFill>
        <p:spPr>
          <a:xfrm>
            <a:off x="1116000" y="525600"/>
            <a:ext cx="6192720" cy="6060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03160" y="6597720"/>
            <a:ext cx="75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arlton.paschools.pa.sk.ca/chemical/molemass/avogadro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ogadro’s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l volumes of gases at the same temperature and pressure contain equal numbers of molecu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Combining of hydrogen and oxygen"/>
          <p:cNvPicPr/>
          <p:nvPr/>
        </p:nvPicPr>
        <p:blipFill>
          <a:blip r:embed="rId1"/>
          <a:stretch/>
        </p:blipFill>
        <p:spPr>
          <a:xfrm>
            <a:off x="0" y="2104920"/>
            <a:ext cx="8964720" cy="4753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30240" y="0"/>
            <a:ext cx="728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://www.carlton.paschools.pa.sk.ca/chemical/molemass/avogadro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541440" y="274320"/>
            <a:ext cx="96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l in the table below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C8H18(l) +___O2(g)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___CO2(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H2O(g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600200"/>
          <a:ext cx="8229600" cy="4492800"/>
        </p:xfrm>
        <a:graphic>
          <a:graphicData uri="http://schemas.openxmlformats.org/drawingml/2006/table">
            <a:tbl>
              <a:tblPr/>
              <a:tblGrid>
                <a:gridCol w="2090160"/>
                <a:gridCol w="2007720"/>
                <a:gridCol w="216000"/>
                <a:gridCol w="2041200"/>
                <a:gridCol w="187452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 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ll in the table below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C8H18(l) +____O2(g)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___CO2(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H2O(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4492800"/>
        </p:xfrm>
        <a:graphic>
          <a:graphicData uri="http://schemas.openxmlformats.org/drawingml/2006/table">
            <a:tbl>
              <a:tblPr/>
              <a:tblGrid>
                <a:gridCol w="2090160"/>
                <a:gridCol w="2007720"/>
                <a:gridCol w="216000"/>
                <a:gridCol w="2041200"/>
                <a:gridCol w="187452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 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 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660240" y="1160640"/>
            <a:ext cx="216000" cy="196560"/>
          </a:xfrm>
          <a:custGeom>
            <a:avLst/>
            <a:gdLst/>
            <a:ahLst/>
            <a:rect l="l" t="t" r="r" b="b"/>
            <a:pathLst>
              <a:path w="596" h="546">
                <a:moveTo>
                  <a:pt x="1836" y="3349"/>
                </a:moveTo>
                <a:lnTo>
                  <a:pt x="1836" y="3349"/>
                </a:lnTo>
              </a:path>
              <a:path w="596" h="546">
                <a:moveTo>
                  <a:pt x="1885" y="3423"/>
                </a:moveTo>
                <a:cubicBezTo>
                  <a:pt x="1869" y="3423"/>
                  <a:pt x="1852" y="3423"/>
                  <a:pt x="1836" y="3423"/>
                </a:cubicBezTo>
                <a:cubicBezTo>
                  <a:pt x="1845" y="3358"/>
                  <a:pt x="1863" y="3323"/>
                  <a:pt x="1935" y="3299"/>
                </a:cubicBezTo>
                <a:cubicBezTo>
                  <a:pt x="1976" y="3285"/>
                  <a:pt x="2046" y="3270"/>
                  <a:pt x="2084" y="3249"/>
                </a:cubicBezTo>
                <a:cubicBezTo>
                  <a:pt x="2117" y="3231"/>
                  <a:pt x="2163" y="3203"/>
                  <a:pt x="2208" y="3225"/>
                </a:cubicBezTo>
                <a:cubicBezTo>
                  <a:pt x="2225" y="3233"/>
                  <a:pt x="2265" y="3306"/>
                  <a:pt x="2257" y="3324"/>
                </a:cubicBezTo>
                <a:cubicBezTo>
                  <a:pt x="2232" y="3381"/>
                  <a:pt x="2220" y="3430"/>
                  <a:pt x="2158" y="3473"/>
                </a:cubicBezTo>
                <a:cubicBezTo>
                  <a:pt x="2106" y="3509"/>
                  <a:pt x="2042" y="3573"/>
                  <a:pt x="1984" y="3597"/>
                </a:cubicBezTo>
                <a:cubicBezTo>
                  <a:pt x="1930" y="3619"/>
                  <a:pt x="1931" y="3665"/>
                  <a:pt x="1885" y="3696"/>
                </a:cubicBezTo>
                <a:cubicBezTo>
                  <a:pt x="1877" y="3696"/>
                  <a:pt x="1868" y="3696"/>
                  <a:pt x="1860" y="3696"/>
                </a:cubicBezTo>
                <a:cubicBezTo>
                  <a:pt x="1888" y="3660"/>
                  <a:pt x="1937" y="3588"/>
                  <a:pt x="1984" y="3597"/>
                </a:cubicBezTo>
                <a:cubicBezTo>
                  <a:pt x="1993" y="3599"/>
                  <a:pt x="2096" y="3641"/>
                  <a:pt x="2108" y="3646"/>
                </a:cubicBezTo>
                <a:cubicBezTo>
                  <a:pt x="2153" y="3665"/>
                  <a:pt x="2198" y="3716"/>
                  <a:pt x="2208" y="3721"/>
                </a:cubicBezTo>
                <a:cubicBezTo>
                  <a:pt x="2237" y="3736"/>
                  <a:pt x="2320" y="3768"/>
                  <a:pt x="2356" y="3770"/>
                </a:cubicBezTo>
                <a:cubicBezTo>
                  <a:pt x="2398" y="3770"/>
                  <a:pt x="2406" y="3770"/>
                  <a:pt x="2431" y="37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59040" y="1081080"/>
            <a:ext cx="563760" cy="241200"/>
          </a:xfrm>
          <a:custGeom>
            <a:avLst/>
            <a:gdLst/>
            <a:ahLst/>
            <a:rect l="l" t="t" r="r" b="b"/>
            <a:pathLst>
              <a:path w="1563" h="671">
                <a:moveTo>
                  <a:pt x="7863" y="3150"/>
                </a:moveTo>
                <a:cubicBezTo>
                  <a:pt x="7863" y="3080"/>
                  <a:pt x="7859" y="3059"/>
                  <a:pt x="7938" y="3051"/>
                </a:cubicBezTo>
                <a:cubicBezTo>
                  <a:pt x="7993" y="3045"/>
                  <a:pt x="8033" y="3038"/>
                  <a:pt x="8086" y="3026"/>
                </a:cubicBezTo>
                <a:cubicBezTo>
                  <a:pt x="8121" y="3026"/>
                  <a:pt x="8139" y="3031"/>
                  <a:pt x="8161" y="3051"/>
                </a:cubicBezTo>
                <a:cubicBezTo>
                  <a:pt x="8126" y="3109"/>
                  <a:pt x="8104" y="3162"/>
                  <a:pt x="8062" y="3225"/>
                </a:cubicBezTo>
                <a:cubicBezTo>
                  <a:pt x="8019" y="3289"/>
                  <a:pt x="7969" y="3298"/>
                  <a:pt x="7913" y="3349"/>
                </a:cubicBezTo>
                <a:cubicBezTo>
                  <a:pt x="7842" y="3414"/>
                  <a:pt x="7800" y="3446"/>
                  <a:pt x="7739" y="3522"/>
                </a:cubicBezTo>
                <a:cubicBezTo>
                  <a:pt x="7709" y="3552"/>
                  <a:pt x="7695" y="3563"/>
                  <a:pt x="7665" y="3572"/>
                </a:cubicBezTo>
                <a:cubicBezTo>
                  <a:pt x="7714" y="3483"/>
                  <a:pt x="7706" y="3524"/>
                  <a:pt x="7789" y="3497"/>
                </a:cubicBezTo>
                <a:cubicBezTo>
                  <a:pt x="7871" y="3470"/>
                  <a:pt x="7954" y="3456"/>
                  <a:pt x="8012" y="3547"/>
                </a:cubicBezTo>
                <a:cubicBezTo>
                  <a:pt x="8050" y="3606"/>
                  <a:pt x="8077" y="3660"/>
                  <a:pt x="8161" y="3671"/>
                </a:cubicBezTo>
                <a:cubicBezTo>
                  <a:pt x="8235" y="3681"/>
                  <a:pt x="8277" y="3645"/>
                  <a:pt x="8334" y="3597"/>
                </a:cubicBezTo>
                <a:cubicBezTo>
                  <a:pt x="8351" y="3580"/>
                  <a:pt x="8367" y="3564"/>
                  <a:pt x="8384" y="3547"/>
                </a:cubicBezTo>
              </a:path>
              <a:path w="1563" h="671">
                <a:moveTo>
                  <a:pt x="8830" y="3125"/>
                </a:moveTo>
                <a:cubicBezTo>
                  <a:pt x="8773" y="3137"/>
                  <a:pt x="8714" y="3170"/>
                  <a:pt x="8682" y="3225"/>
                </a:cubicBezTo>
                <a:cubicBezTo>
                  <a:pt x="8682" y="3233"/>
                  <a:pt x="8682" y="3241"/>
                  <a:pt x="8682" y="3249"/>
                </a:cubicBezTo>
                <a:cubicBezTo>
                  <a:pt x="8743" y="3276"/>
                  <a:pt x="8794" y="3272"/>
                  <a:pt x="8855" y="3299"/>
                </a:cubicBezTo>
                <a:cubicBezTo>
                  <a:pt x="8923" y="3329"/>
                  <a:pt x="8968" y="3356"/>
                  <a:pt x="8979" y="3423"/>
                </a:cubicBezTo>
                <a:cubicBezTo>
                  <a:pt x="8987" y="3474"/>
                  <a:pt x="8958" y="3531"/>
                  <a:pt x="8930" y="3572"/>
                </a:cubicBezTo>
                <a:cubicBezTo>
                  <a:pt x="8898" y="3619"/>
                  <a:pt x="8831" y="3643"/>
                  <a:pt x="8781" y="3646"/>
                </a:cubicBezTo>
                <a:cubicBezTo>
                  <a:pt x="8743" y="3648"/>
                  <a:pt x="8641" y="3650"/>
                  <a:pt x="8682" y="3572"/>
                </a:cubicBezTo>
                <a:cubicBezTo>
                  <a:pt x="8728" y="3526"/>
                  <a:pt x="8742" y="3513"/>
                  <a:pt x="8756" y="3473"/>
                </a:cubicBezTo>
              </a:path>
              <a:path w="1563" h="671">
                <a:moveTo>
                  <a:pt x="8880" y="3051"/>
                </a:moveTo>
                <a:cubicBezTo>
                  <a:pt x="8941" y="3051"/>
                  <a:pt x="8965" y="3039"/>
                  <a:pt x="9029" y="3026"/>
                </a:cubicBezTo>
                <a:cubicBezTo>
                  <a:pt x="9045" y="3023"/>
                  <a:pt x="9241" y="3009"/>
                  <a:pt x="9227" y="3001"/>
                </a:cubicBezTo>
                <a:cubicBezTo>
                  <a:pt x="9186" y="3001"/>
                  <a:pt x="9170" y="2993"/>
                  <a:pt x="9178" y="30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94200" y="1089000"/>
            <a:ext cx="347760" cy="233280"/>
          </a:xfrm>
          <a:custGeom>
            <a:avLst/>
            <a:gdLst/>
            <a:ahLst/>
            <a:rect l="l" t="t" r="r" b="b"/>
            <a:pathLst>
              <a:path w="968" h="646">
                <a:moveTo>
                  <a:pt x="13816" y="3076"/>
                </a:moveTo>
                <a:cubicBezTo>
                  <a:pt x="13803" y="3126"/>
                  <a:pt x="13759" y="3170"/>
                  <a:pt x="13742" y="3225"/>
                </a:cubicBezTo>
                <a:cubicBezTo>
                  <a:pt x="13723" y="3286"/>
                  <a:pt x="13697" y="3345"/>
                  <a:pt x="13667" y="3398"/>
                </a:cubicBezTo>
                <a:cubicBezTo>
                  <a:pt x="13636" y="3453"/>
                  <a:pt x="13622" y="3514"/>
                  <a:pt x="13593" y="3572"/>
                </a:cubicBezTo>
                <a:cubicBezTo>
                  <a:pt x="13628" y="3537"/>
                  <a:pt x="13649" y="3522"/>
                  <a:pt x="13692" y="3497"/>
                </a:cubicBezTo>
              </a:path>
              <a:path w="968" h="646">
                <a:moveTo>
                  <a:pt x="14288" y="3026"/>
                </a:moveTo>
                <a:cubicBezTo>
                  <a:pt x="14247" y="3059"/>
                  <a:pt x="14178" y="3095"/>
                  <a:pt x="14163" y="3150"/>
                </a:cubicBezTo>
                <a:cubicBezTo>
                  <a:pt x="14148" y="3205"/>
                  <a:pt x="14116" y="3246"/>
                  <a:pt x="14089" y="3299"/>
                </a:cubicBezTo>
                <a:cubicBezTo>
                  <a:pt x="14077" y="3322"/>
                  <a:pt x="14033" y="3392"/>
                  <a:pt x="14064" y="3423"/>
                </a:cubicBezTo>
                <a:cubicBezTo>
                  <a:pt x="14118" y="3477"/>
                  <a:pt x="14174" y="3521"/>
                  <a:pt x="14238" y="3572"/>
                </a:cubicBezTo>
                <a:cubicBezTo>
                  <a:pt x="14281" y="3607"/>
                  <a:pt x="14301" y="3642"/>
                  <a:pt x="14362" y="3646"/>
                </a:cubicBezTo>
                <a:cubicBezTo>
                  <a:pt x="14457" y="3652"/>
                  <a:pt x="14426" y="3697"/>
                  <a:pt x="14511" y="3621"/>
                </a:cubicBezTo>
                <a:cubicBezTo>
                  <a:pt x="14552" y="3584"/>
                  <a:pt x="14560" y="3549"/>
                  <a:pt x="14560" y="3497"/>
                </a:cubicBezTo>
                <a:cubicBezTo>
                  <a:pt x="14560" y="3428"/>
                  <a:pt x="14531" y="3405"/>
                  <a:pt x="14461" y="3398"/>
                </a:cubicBezTo>
                <a:cubicBezTo>
                  <a:pt x="14406" y="3392"/>
                  <a:pt x="14382" y="3418"/>
                  <a:pt x="14337" y="3423"/>
                </a:cubicBezTo>
                <a:cubicBezTo>
                  <a:pt x="14255" y="3432"/>
                  <a:pt x="14268" y="3437"/>
                  <a:pt x="14213" y="3497"/>
                </a:cubicBezTo>
                <a:cubicBezTo>
                  <a:pt x="14167" y="3547"/>
                  <a:pt x="14173" y="3598"/>
                  <a:pt x="14238" y="3621"/>
                </a:cubicBezTo>
                <a:cubicBezTo>
                  <a:pt x="14278" y="3621"/>
                  <a:pt x="14297" y="3611"/>
                  <a:pt x="14312" y="35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16840" y="1044720"/>
            <a:ext cx="349200" cy="339480"/>
          </a:xfrm>
          <a:custGeom>
            <a:avLst/>
            <a:gdLst/>
            <a:ahLst/>
            <a:rect l="l" t="t" r="r" b="b"/>
            <a:pathLst>
              <a:path w="969" h="944">
                <a:moveTo>
                  <a:pt x="20042" y="3026"/>
                </a:moveTo>
                <a:cubicBezTo>
                  <a:pt x="20010" y="3066"/>
                  <a:pt x="19982" y="3106"/>
                  <a:pt x="19968" y="3150"/>
                </a:cubicBezTo>
                <a:cubicBezTo>
                  <a:pt x="19946" y="3220"/>
                  <a:pt x="19915" y="3262"/>
                  <a:pt x="19893" y="3324"/>
                </a:cubicBezTo>
                <a:cubicBezTo>
                  <a:pt x="19886" y="3344"/>
                  <a:pt x="19827" y="3466"/>
                  <a:pt x="19819" y="3473"/>
                </a:cubicBezTo>
                <a:cubicBezTo>
                  <a:pt x="19784" y="3504"/>
                  <a:pt x="19737" y="3503"/>
                  <a:pt x="19794" y="3522"/>
                </a:cubicBezTo>
              </a:path>
              <a:path w="969" h="944">
                <a:moveTo>
                  <a:pt x="20513" y="2902"/>
                </a:moveTo>
                <a:cubicBezTo>
                  <a:pt x="20463" y="2917"/>
                  <a:pt x="20405" y="2950"/>
                  <a:pt x="20365" y="3001"/>
                </a:cubicBezTo>
                <a:cubicBezTo>
                  <a:pt x="20303" y="3079"/>
                  <a:pt x="20271" y="3106"/>
                  <a:pt x="20265" y="3200"/>
                </a:cubicBezTo>
                <a:cubicBezTo>
                  <a:pt x="20262" y="3248"/>
                  <a:pt x="20346" y="3308"/>
                  <a:pt x="20389" y="3324"/>
                </a:cubicBezTo>
                <a:cubicBezTo>
                  <a:pt x="20446" y="3345"/>
                  <a:pt x="20489" y="3308"/>
                  <a:pt x="20538" y="3299"/>
                </a:cubicBezTo>
                <a:cubicBezTo>
                  <a:pt x="20581" y="3291"/>
                  <a:pt x="20661" y="3302"/>
                  <a:pt x="20687" y="3249"/>
                </a:cubicBezTo>
                <a:cubicBezTo>
                  <a:pt x="20712" y="3200"/>
                  <a:pt x="20695" y="3044"/>
                  <a:pt x="20662" y="3001"/>
                </a:cubicBezTo>
                <a:cubicBezTo>
                  <a:pt x="20614" y="2938"/>
                  <a:pt x="20580" y="2952"/>
                  <a:pt x="20513" y="2952"/>
                </a:cubicBezTo>
              </a:path>
              <a:path w="969" h="944">
                <a:moveTo>
                  <a:pt x="20439" y="3373"/>
                </a:moveTo>
                <a:cubicBezTo>
                  <a:pt x="20377" y="3373"/>
                  <a:pt x="20333" y="3388"/>
                  <a:pt x="20290" y="3423"/>
                </a:cubicBezTo>
                <a:cubicBezTo>
                  <a:pt x="20244" y="3460"/>
                  <a:pt x="20222" y="3514"/>
                  <a:pt x="20216" y="3572"/>
                </a:cubicBezTo>
                <a:cubicBezTo>
                  <a:pt x="20210" y="3628"/>
                  <a:pt x="20210" y="3677"/>
                  <a:pt x="20241" y="3721"/>
                </a:cubicBezTo>
                <a:cubicBezTo>
                  <a:pt x="20274" y="3767"/>
                  <a:pt x="20334" y="3826"/>
                  <a:pt x="20389" y="3845"/>
                </a:cubicBezTo>
                <a:cubicBezTo>
                  <a:pt x="20439" y="3862"/>
                  <a:pt x="20517" y="3784"/>
                  <a:pt x="20563" y="3770"/>
                </a:cubicBezTo>
                <a:cubicBezTo>
                  <a:pt x="20610" y="3755"/>
                  <a:pt x="20718" y="3687"/>
                  <a:pt x="20737" y="3646"/>
                </a:cubicBezTo>
                <a:cubicBezTo>
                  <a:pt x="20755" y="3607"/>
                  <a:pt x="20734" y="3549"/>
                  <a:pt x="20712" y="3522"/>
                </a:cubicBezTo>
                <a:cubicBezTo>
                  <a:pt x="20677" y="3478"/>
                  <a:pt x="20662" y="3454"/>
                  <a:pt x="20662" y="3398"/>
                </a:cubicBezTo>
                <a:cubicBezTo>
                  <a:pt x="20662" y="3382"/>
                  <a:pt x="20662" y="3365"/>
                  <a:pt x="20662" y="3349"/>
                </a:cubicBezTo>
                <a:cubicBezTo>
                  <a:pt x="20546" y="3349"/>
                  <a:pt x="20620" y="3330"/>
                  <a:pt x="20563" y="3299"/>
                </a:cubicBezTo>
                <a:cubicBezTo>
                  <a:pt x="20543" y="3288"/>
                  <a:pt x="20419" y="3314"/>
                  <a:pt x="20489" y="3324"/>
                </a:cubicBezTo>
                <a:cubicBezTo>
                  <a:pt x="20497" y="3324"/>
                  <a:pt x="20505" y="3324"/>
                  <a:pt x="20513" y="33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116840" y="1751040"/>
            <a:ext cx="393480" cy="249120"/>
          </a:xfrm>
          <a:custGeom>
            <a:avLst/>
            <a:gdLst/>
            <a:ahLst/>
            <a:rect l="l" t="t" r="r" b="b"/>
            <a:pathLst>
              <a:path w="1093" h="695">
                <a:moveTo>
                  <a:pt x="20067" y="4911"/>
                </a:moveTo>
                <a:cubicBezTo>
                  <a:pt x="20054" y="4961"/>
                  <a:pt x="20005" y="5004"/>
                  <a:pt x="19993" y="5060"/>
                </a:cubicBezTo>
                <a:cubicBezTo>
                  <a:pt x="19977" y="5135"/>
                  <a:pt x="19937" y="5162"/>
                  <a:pt x="19893" y="5234"/>
                </a:cubicBezTo>
                <a:cubicBezTo>
                  <a:pt x="19869" y="5273"/>
                  <a:pt x="19776" y="5362"/>
                  <a:pt x="19769" y="5383"/>
                </a:cubicBezTo>
                <a:cubicBezTo>
                  <a:pt x="19769" y="5399"/>
                  <a:pt x="19769" y="5416"/>
                  <a:pt x="19769" y="5432"/>
                </a:cubicBezTo>
                <a:cubicBezTo>
                  <a:pt x="19833" y="5369"/>
                  <a:pt x="19891" y="5332"/>
                  <a:pt x="19968" y="5283"/>
                </a:cubicBezTo>
              </a:path>
              <a:path w="1093" h="695">
                <a:moveTo>
                  <a:pt x="20638" y="4887"/>
                </a:moveTo>
                <a:cubicBezTo>
                  <a:pt x="20614" y="4877"/>
                  <a:pt x="20520" y="4837"/>
                  <a:pt x="20489" y="4862"/>
                </a:cubicBezTo>
                <a:cubicBezTo>
                  <a:pt x="20451" y="4893"/>
                  <a:pt x="20406" y="4957"/>
                  <a:pt x="20389" y="5011"/>
                </a:cubicBezTo>
                <a:cubicBezTo>
                  <a:pt x="20379" y="5042"/>
                  <a:pt x="20415" y="5123"/>
                  <a:pt x="20439" y="5135"/>
                </a:cubicBezTo>
                <a:cubicBezTo>
                  <a:pt x="20464" y="5147"/>
                  <a:pt x="20561" y="5157"/>
                  <a:pt x="20588" y="5159"/>
                </a:cubicBezTo>
                <a:cubicBezTo>
                  <a:pt x="20642" y="5163"/>
                  <a:pt x="20723" y="5114"/>
                  <a:pt x="20762" y="5085"/>
                </a:cubicBezTo>
                <a:cubicBezTo>
                  <a:pt x="20821" y="5041"/>
                  <a:pt x="20819" y="4988"/>
                  <a:pt x="20786" y="4936"/>
                </a:cubicBezTo>
                <a:cubicBezTo>
                  <a:pt x="20734" y="4855"/>
                  <a:pt x="20664" y="4835"/>
                  <a:pt x="20563" y="4862"/>
                </a:cubicBezTo>
                <a:cubicBezTo>
                  <a:pt x="20546" y="4870"/>
                  <a:pt x="20530" y="4879"/>
                  <a:pt x="20513" y="4887"/>
                </a:cubicBezTo>
              </a:path>
              <a:path w="1093" h="695">
                <a:moveTo>
                  <a:pt x="20563" y="5135"/>
                </a:moveTo>
                <a:cubicBezTo>
                  <a:pt x="20489" y="5135"/>
                  <a:pt x="20462" y="5141"/>
                  <a:pt x="20414" y="5209"/>
                </a:cubicBezTo>
                <a:cubicBezTo>
                  <a:pt x="20371" y="5270"/>
                  <a:pt x="20392" y="5303"/>
                  <a:pt x="20414" y="5358"/>
                </a:cubicBezTo>
                <a:cubicBezTo>
                  <a:pt x="20461" y="5473"/>
                  <a:pt x="20458" y="5471"/>
                  <a:pt x="20563" y="5507"/>
                </a:cubicBezTo>
                <a:cubicBezTo>
                  <a:pt x="20615" y="5525"/>
                  <a:pt x="20675" y="5582"/>
                  <a:pt x="20737" y="5556"/>
                </a:cubicBezTo>
                <a:cubicBezTo>
                  <a:pt x="20773" y="5541"/>
                  <a:pt x="20821" y="5476"/>
                  <a:pt x="20836" y="5457"/>
                </a:cubicBezTo>
                <a:cubicBezTo>
                  <a:pt x="20868" y="5416"/>
                  <a:pt x="20861" y="5384"/>
                  <a:pt x="20861" y="5333"/>
                </a:cubicBezTo>
                <a:cubicBezTo>
                  <a:pt x="20861" y="5311"/>
                  <a:pt x="20791" y="5247"/>
                  <a:pt x="20762" y="5234"/>
                </a:cubicBezTo>
                <a:cubicBezTo>
                  <a:pt x="20696" y="5205"/>
                  <a:pt x="20654" y="5205"/>
                  <a:pt x="20588" y="5234"/>
                </a:cubicBezTo>
                <a:cubicBezTo>
                  <a:pt x="20538" y="5256"/>
                  <a:pt x="20488" y="5283"/>
                  <a:pt x="20439" y="53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24840" y="2455920"/>
            <a:ext cx="365040" cy="268200"/>
          </a:xfrm>
          <a:custGeom>
            <a:avLst/>
            <a:gdLst/>
            <a:ahLst/>
            <a:rect l="l" t="t" r="r" b="b"/>
            <a:pathLst>
              <a:path w="1018" h="745">
                <a:moveTo>
                  <a:pt x="20414" y="6921"/>
                </a:moveTo>
                <a:cubicBezTo>
                  <a:pt x="20398" y="6921"/>
                  <a:pt x="20381" y="6921"/>
                  <a:pt x="20365" y="6921"/>
                </a:cubicBezTo>
                <a:cubicBezTo>
                  <a:pt x="20365" y="7015"/>
                  <a:pt x="20319" y="7042"/>
                  <a:pt x="20290" y="7119"/>
                </a:cubicBezTo>
                <a:cubicBezTo>
                  <a:pt x="20253" y="7218"/>
                  <a:pt x="20203" y="7255"/>
                  <a:pt x="20141" y="7342"/>
                </a:cubicBezTo>
                <a:cubicBezTo>
                  <a:pt x="20112" y="7382"/>
                  <a:pt x="20103" y="7406"/>
                  <a:pt x="20067" y="7441"/>
                </a:cubicBezTo>
                <a:cubicBezTo>
                  <a:pt x="20111" y="7420"/>
                  <a:pt x="20123" y="7417"/>
                  <a:pt x="20141" y="7392"/>
                </a:cubicBezTo>
              </a:path>
              <a:path w="1018" h="745">
                <a:moveTo>
                  <a:pt x="20886" y="6921"/>
                </a:moveTo>
                <a:cubicBezTo>
                  <a:pt x="20827" y="6886"/>
                  <a:pt x="20795" y="6891"/>
                  <a:pt x="20737" y="6921"/>
                </a:cubicBezTo>
                <a:cubicBezTo>
                  <a:pt x="20693" y="6944"/>
                  <a:pt x="20640" y="7033"/>
                  <a:pt x="20662" y="7094"/>
                </a:cubicBezTo>
                <a:cubicBezTo>
                  <a:pt x="20686" y="7160"/>
                  <a:pt x="20722" y="7169"/>
                  <a:pt x="20786" y="7169"/>
                </a:cubicBezTo>
                <a:cubicBezTo>
                  <a:pt x="20820" y="7169"/>
                  <a:pt x="20991" y="7142"/>
                  <a:pt x="21010" y="7119"/>
                </a:cubicBezTo>
                <a:cubicBezTo>
                  <a:pt x="21050" y="7070"/>
                  <a:pt x="21102" y="6954"/>
                  <a:pt x="21059" y="6896"/>
                </a:cubicBezTo>
                <a:cubicBezTo>
                  <a:pt x="21020" y="6844"/>
                  <a:pt x="20938" y="6818"/>
                  <a:pt x="20886" y="6846"/>
                </a:cubicBezTo>
                <a:cubicBezTo>
                  <a:pt x="20878" y="6854"/>
                  <a:pt x="20869" y="6863"/>
                  <a:pt x="20861" y="6871"/>
                </a:cubicBezTo>
              </a:path>
              <a:path w="1018" h="745">
                <a:moveTo>
                  <a:pt x="20836" y="7268"/>
                </a:moveTo>
                <a:cubicBezTo>
                  <a:pt x="20779" y="7268"/>
                  <a:pt x="20730" y="7256"/>
                  <a:pt x="20687" y="7293"/>
                </a:cubicBezTo>
                <a:cubicBezTo>
                  <a:pt x="20652" y="7323"/>
                  <a:pt x="20626" y="7370"/>
                  <a:pt x="20638" y="7417"/>
                </a:cubicBezTo>
                <a:cubicBezTo>
                  <a:pt x="20662" y="7509"/>
                  <a:pt x="20729" y="7591"/>
                  <a:pt x="20836" y="7565"/>
                </a:cubicBezTo>
                <a:cubicBezTo>
                  <a:pt x="20860" y="7559"/>
                  <a:pt x="20940" y="7528"/>
                  <a:pt x="20960" y="7516"/>
                </a:cubicBezTo>
                <a:cubicBezTo>
                  <a:pt x="21021" y="7479"/>
                  <a:pt x="21055" y="7446"/>
                  <a:pt x="21034" y="7367"/>
                </a:cubicBezTo>
                <a:cubicBezTo>
                  <a:pt x="21026" y="7338"/>
                  <a:pt x="20944" y="7275"/>
                  <a:pt x="20910" y="7268"/>
                </a:cubicBezTo>
                <a:cubicBezTo>
                  <a:pt x="20789" y="7243"/>
                  <a:pt x="20638" y="7268"/>
                  <a:pt x="20513" y="72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41960" y="3133800"/>
            <a:ext cx="374760" cy="250920"/>
          </a:xfrm>
          <a:custGeom>
            <a:avLst/>
            <a:gdLst/>
            <a:ahLst/>
            <a:rect l="l" t="t" r="r" b="b"/>
            <a:pathLst>
              <a:path w="1043" h="696">
                <a:moveTo>
                  <a:pt x="14883" y="8756"/>
                </a:moveTo>
                <a:cubicBezTo>
                  <a:pt x="14883" y="8739"/>
                  <a:pt x="14883" y="8723"/>
                  <a:pt x="14883" y="8706"/>
                </a:cubicBezTo>
                <a:cubicBezTo>
                  <a:pt x="14844" y="8754"/>
                  <a:pt x="14844" y="8808"/>
                  <a:pt x="14808" y="8855"/>
                </a:cubicBezTo>
                <a:cubicBezTo>
                  <a:pt x="14743" y="8940"/>
                  <a:pt x="14672" y="9017"/>
                  <a:pt x="14610" y="9103"/>
                </a:cubicBezTo>
                <a:cubicBezTo>
                  <a:pt x="14579" y="9146"/>
                  <a:pt x="14517" y="9388"/>
                  <a:pt x="14610" y="9203"/>
                </a:cubicBezTo>
                <a:cubicBezTo>
                  <a:pt x="14610" y="9195"/>
                  <a:pt x="14610" y="9186"/>
                  <a:pt x="14610" y="9178"/>
                </a:cubicBezTo>
              </a:path>
              <a:path w="1043" h="696">
                <a:moveTo>
                  <a:pt x="15354" y="8756"/>
                </a:moveTo>
                <a:cubicBezTo>
                  <a:pt x="15254" y="8801"/>
                  <a:pt x="15285" y="8856"/>
                  <a:pt x="15205" y="8930"/>
                </a:cubicBezTo>
                <a:cubicBezTo>
                  <a:pt x="15165" y="8967"/>
                  <a:pt x="15122" y="8988"/>
                  <a:pt x="15106" y="9054"/>
                </a:cubicBezTo>
                <a:cubicBezTo>
                  <a:pt x="15085" y="9143"/>
                  <a:pt x="15125" y="9205"/>
                  <a:pt x="15156" y="9277"/>
                </a:cubicBezTo>
                <a:cubicBezTo>
                  <a:pt x="15185" y="9346"/>
                  <a:pt x="15226" y="9395"/>
                  <a:pt x="15304" y="9401"/>
                </a:cubicBezTo>
                <a:cubicBezTo>
                  <a:pt x="15369" y="9406"/>
                  <a:pt x="15405" y="9386"/>
                  <a:pt x="15453" y="9376"/>
                </a:cubicBezTo>
                <a:cubicBezTo>
                  <a:pt x="15509" y="9364"/>
                  <a:pt x="15573" y="9365"/>
                  <a:pt x="15602" y="9302"/>
                </a:cubicBezTo>
                <a:cubicBezTo>
                  <a:pt x="15625" y="9251"/>
                  <a:pt x="15593" y="9179"/>
                  <a:pt x="15553" y="9153"/>
                </a:cubicBezTo>
                <a:cubicBezTo>
                  <a:pt x="15507" y="9124"/>
                  <a:pt x="15460" y="9171"/>
                  <a:pt x="15429" y="9178"/>
                </a:cubicBezTo>
                <a:cubicBezTo>
                  <a:pt x="15361" y="9193"/>
                  <a:pt x="15310" y="9201"/>
                  <a:pt x="15255" y="9252"/>
                </a:cubicBezTo>
                <a:cubicBezTo>
                  <a:pt x="15199" y="9304"/>
                  <a:pt x="15174" y="9350"/>
                  <a:pt x="15255" y="9401"/>
                </a:cubicBezTo>
                <a:cubicBezTo>
                  <a:pt x="15280" y="9401"/>
                  <a:pt x="15288" y="9401"/>
                  <a:pt x="15304" y="94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81920" y="3840120"/>
            <a:ext cx="419040" cy="285840"/>
          </a:xfrm>
          <a:custGeom>
            <a:avLst/>
            <a:gdLst/>
            <a:ahLst/>
            <a:rect l="l" t="t" r="r" b="b"/>
            <a:pathLst>
              <a:path w="1167" h="795">
                <a:moveTo>
                  <a:pt x="19720" y="10765"/>
                </a:moveTo>
                <a:cubicBezTo>
                  <a:pt x="19703" y="10765"/>
                  <a:pt x="19687" y="10765"/>
                  <a:pt x="19670" y="10765"/>
                </a:cubicBezTo>
                <a:cubicBezTo>
                  <a:pt x="19723" y="10765"/>
                  <a:pt x="19740" y="10745"/>
                  <a:pt x="19794" y="10740"/>
                </a:cubicBezTo>
                <a:cubicBezTo>
                  <a:pt x="19853" y="10735"/>
                  <a:pt x="19896" y="10716"/>
                  <a:pt x="19968" y="10716"/>
                </a:cubicBezTo>
                <a:cubicBezTo>
                  <a:pt x="20031" y="10716"/>
                  <a:pt x="20085" y="10726"/>
                  <a:pt x="20141" y="10691"/>
                </a:cubicBezTo>
                <a:cubicBezTo>
                  <a:pt x="20166" y="10666"/>
                  <a:pt x="20174" y="10658"/>
                  <a:pt x="20191" y="10691"/>
                </a:cubicBezTo>
                <a:cubicBezTo>
                  <a:pt x="20115" y="10767"/>
                  <a:pt x="20071" y="10826"/>
                  <a:pt x="20017" y="10914"/>
                </a:cubicBezTo>
                <a:cubicBezTo>
                  <a:pt x="19974" y="10983"/>
                  <a:pt x="19938" y="11073"/>
                  <a:pt x="19893" y="11137"/>
                </a:cubicBezTo>
                <a:cubicBezTo>
                  <a:pt x="19852" y="11196"/>
                  <a:pt x="19844" y="11227"/>
                  <a:pt x="19819" y="11286"/>
                </a:cubicBezTo>
                <a:cubicBezTo>
                  <a:pt x="19793" y="11346"/>
                  <a:pt x="19694" y="11500"/>
                  <a:pt x="19745" y="11460"/>
                </a:cubicBezTo>
                <a:cubicBezTo>
                  <a:pt x="19766" y="11416"/>
                  <a:pt x="19769" y="11404"/>
                  <a:pt x="19794" y="11385"/>
                </a:cubicBezTo>
              </a:path>
              <a:path w="1167" h="795">
                <a:moveTo>
                  <a:pt x="20489" y="10790"/>
                </a:moveTo>
                <a:cubicBezTo>
                  <a:pt x="20542" y="10747"/>
                  <a:pt x="20570" y="10740"/>
                  <a:pt x="20638" y="10740"/>
                </a:cubicBezTo>
                <a:cubicBezTo>
                  <a:pt x="20654" y="10740"/>
                  <a:pt x="20671" y="10740"/>
                  <a:pt x="20687" y="10740"/>
                </a:cubicBezTo>
                <a:cubicBezTo>
                  <a:pt x="20659" y="10824"/>
                  <a:pt x="20617" y="10876"/>
                  <a:pt x="20588" y="10939"/>
                </a:cubicBezTo>
                <a:cubicBezTo>
                  <a:pt x="20564" y="10989"/>
                  <a:pt x="20532" y="11080"/>
                  <a:pt x="20513" y="11137"/>
                </a:cubicBezTo>
                <a:cubicBezTo>
                  <a:pt x="20489" y="11209"/>
                  <a:pt x="20422" y="11234"/>
                  <a:pt x="20365" y="11286"/>
                </a:cubicBezTo>
                <a:cubicBezTo>
                  <a:pt x="20337" y="11314"/>
                  <a:pt x="20323" y="11323"/>
                  <a:pt x="20290" y="11311"/>
                </a:cubicBezTo>
                <a:cubicBezTo>
                  <a:pt x="20334" y="11267"/>
                  <a:pt x="20378" y="11207"/>
                  <a:pt x="20439" y="11187"/>
                </a:cubicBezTo>
                <a:cubicBezTo>
                  <a:pt x="20483" y="11172"/>
                  <a:pt x="20545" y="11138"/>
                  <a:pt x="20588" y="11187"/>
                </a:cubicBezTo>
                <a:cubicBezTo>
                  <a:pt x="20618" y="11222"/>
                  <a:pt x="20546" y="11340"/>
                  <a:pt x="20613" y="11361"/>
                </a:cubicBezTo>
                <a:cubicBezTo>
                  <a:pt x="20654" y="11374"/>
                  <a:pt x="20754" y="11351"/>
                  <a:pt x="20786" y="11336"/>
                </a:cubicBezTo>
                <a:cubicBezTo>
                  <a:pt x="20842" y="11310"/>
                  <a:pt x="20825" y="11271"/>
                  <a:pt x="20811" y="112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45120" y="1857240"/>
            <a:ext cx="669960" cy="3027600"/>
          </a:xfrm>
          <a:custGeom>
            <a:avLst/>
            <a:gdLst/>
            <a:ahLst/>
            <a:rect l="l" t="t" r="r" b="b"/>
            <a:pathLst>
              <a:path w="1861" h="8410">
                <a:moveTo>
                  <a:pt x="17562" y="5209"/>
                </a:moveTo>
                <a:cubicBezTo>
                  <a:pt x="17562" y="5159"/>
                  <a:pt x="17562" y="5142"/>
                  <a:pt x="17512" y="5159"/>
                </a:cubicBezTo>
                <a:cubicBezTo>
                  <a:pt x="17544" y="5202"/>
                  <a:pt x="17580" y="5240"/>
                  <a:pt x="17611" y="5283"/>
                </a:cubicBezTo>
                <a:cubicBezTo>
                  <a:pt x="17655" y="5344"/>
                  <a:pt x="17813" y="5490"/>
                  <a:pt x="17835" y="5556"/>
                </a:cubicBezTo>
                <a:cubicBezTo>
                  <a:pt x="17863" y="5641"/>
                  <a:pt x="17862" y="5842"/>
                  <a:pt x="17859" y="5928"/>
                </a:cubicBezTo>
                <a:cubicBezTo>
                  <a:pt x="17856" y="6001"/>
                  <a:pt x="17843" y="6057"/>
                  <a:pt x="17835" y="6127"/>
                </a:cubicBezTo>
                <a:cubicBezTo>
                  <a:pt x="17821" y="6242"/>
                  <a:pt x="17793" y="6360"/>
                  <a:pt x="17785" y="6474"/>
                </a:cubicBezTo>
                <a:cubicBezTo>
                  <a:pt x="17779" y="6563"/>
                  <a:pt x="17757" y="6661"/>
                  <a:pt x="17760" y="6747"/>
                </a:cubicBezTo>
                <a:cubicBezTo>
                  <a:pt x="17762" y="6821"/>
                  <a:pt x="17789" y="6866"/>
                  <a:pt x="17785" y="6945"/>
                </a:cubicBezTo>
                <a:cubicBezTo>
                  <a:pt x="17781" y="7028"/>
                  <a:pt x="17741" y="7114"/>
                  <a:pt x="17735" y="7193"/>
                </a:cubicBezTo>
                <a:cubicBezTo>
                  <a:pt x="17698" y="7701"/>
                  <a:pt x="17737" y="8229"/>
                  <a:pt x="17711" y="8731"/>
                </a:cubicBezTo>
                <a:cubicBezTo>
                  <a:pt x="17701" y="8922"/>
                  <a:pt x="17711" y="9126"/>
                  <a:pt x="17686" y="9302"/>
                </a:cubicBezTo>
                <a:cubicBezTo>
                  <a:pt x="17679" y="9355"/>
                  <a:pt x="17669" y="9400"/>
                  <a:pt x="17661" y="9451"/>
                </a:cubicBezTo>
                <a:cubicBezTo>
                  <a:pt x="17654" y="9497"/>
                  <a:pt x="17643" y="9567"/>
                  <a:pt x="17636" y="9624"/>
                </a:cubicBezTo>
                <a:cubicBezTo>
                  <a:pt x="17629" y="9678"/>
                  <a:pt x="17618" y="9757"/>
                  <a:pt x="17611" y="9823"/>
                </a:cubicBezTo>
                <a:cubicBezTo>
                  <a:pt x="17606" y="9876"/>
                  <a:pt x="17590" y="9918"/>
                  <a:pt x="17587" y="9971"/>
                </a:cubicBezTo>
                <a:cubicBezTo>
                  <a:pt x="17563" y="10417"/>
                  <a:pt x="17562" y="10870"/>
                  <a:pt x="17562" y="11311"/>
                </a:cubicBezTo>
                <a:cubicBezTo>
                  <a:pt x="17562" y="11596"/>
                  <a:pt x="17566" y="11876"/>
                  <a:pt x="17537" y="12154"/>
                </a:cubicBezTo>
                <a:cubicBezTo>
                  <a:pt x="17529" y="12228"/>
                  <a:pt x="17492" y="12305"/>
                  <a:pt x="17462" y="12378"/>
                </a:cubicBezTo>
                <a:cubicBezTo>
                  <a:pt x="17442" y="12428"/>
                  <a:pt x="17413" y="12474"/>
                  <a:pt x="17388" y="12526"/>
                </a:cubicBezTo>
                <a:cubicBezTo>
                  <a:pt x="17367" y="12569"/>
                  <a:pt x="17334" y="12630"/>
                  <a:pt x="17314" y="12675"/>
                </a:cubicBezTo>
                <a:cubicBezTo>
                  <a:pt x="17294" y="12720"/>
                  <a:pt x="17283" y="12785"/>
                  <a:pt x="17264" y="12824"/>
                </a:cubicBezTo>
                <a:cubicBezTo>
                  <a:pt x="17235" y="12882"/>
                  <a:pt x="17216" y="12977"/>
                  <a:pt x="17190" y="13022"/>
                </a:cubicBezTo>
                <a:cubicBezTo>
                  <a:pt x="17166" y="13063"/>
                  <a:pt x="17121" y="13110"/>
                  <a:pt x="17090" y="13146"/>
                </a:cubicBezTo>
                <a:cubicBezTo>
                  <a:pt x="17023" y="13224"/>
                  <a:pt x="16928" y="13309"/>
                  <a:pt x="16867" y="13370"/>
                </a:cubicBezTo>
                <a:cubicBezTo>
                  <a:pt x="16874" y="13313"/>
                  <a:pt x="16888" y="13282"/>
                  <a:pt x="16892" y="13221"/>
                </a:cubicBezTo>
                <a:cubicBezTo>
                  <a:pt x="16898" y="13133"/>
                  <a:pt x="16903" y="13048"/>
                  <a:pt x="16917" y="12973"/>
                </a:cubicBezTo>
                <a:cubicBezTo>
                  <a:pt x="16941" y="12925"/>
                  <a:pt x="16949" y="12911"/>
                  <a:pt x="16942" y="12874"/>
                </a:cubicBezTo>
                <a:cubicBezTo>
                  <a:pt x="16924" y="12934"/>
                  <a:pt x="16913" y="12980"/>
                  <a:pt x="16892" y="13047"/>
                </a:cubicBezTo>
                <a:cubicBezTo>
                  <a:pt x="16875" y="13101"/>
                  <a:pt x="16860" y="13140"/>
                  <a:pt x="16842" y="13196"/>
                </a:cubicBezTo>
                <a:cubicBezTo>
                  <a:pt x="16828" y="13238"/>
                  <a:pt x="16801" y="13301"/>
                  <a:pt x="16793" y="13345"/>
                </a:cubicBezTo>
                <a:cubicBezTo>
                  <a:pt x="16787" y="13377"/>
                  <a:pt x="16800" y="13412"/>
                  <a:pt x="16793" y="13444"/>
                </a:cubicBezTo>
                <a:cubicBezTo>
                  <a:pt x="16900" y="13456"/>
                  <a:pt x="16996" y="13475"/>
                  <a:pt x="17090" y="13494"/>
                </a:cubicBezTo>
                <a:cubicBezTo>
                  <a:pt x="17134" y="13503"/>
                  <a:pt x="17253" y="13503"/>
                  <a:pt x="17289" y="13519"/>
                </a:cubicBezTo>
                <a:cubicBezTo>
                  <a:pt x="17421" y="13576"/>
                  <a:pt x="17224" y="13530"/>
                  <a:pt x="17314" y="13469"/>
                </a:cubicBezTo>
              </a:path>
              <a:path w="1861" h="8410">
                <a:moveTo>
                  <a:pt x="17909" y="9500"/>
                </a:moveTo>
                <a:cubicBezTo>
                  <a:pt x="17874" y="9582"/>
                  <a:pt x="17890" y="9576"/>
                  <a:pt x="17934" y="9649"/>
                </a:cubicBezTo>
                <a:cubicBezTo>
                  <a:pt x="17957" y="9688"/>
                  <a:pt x="18016" y="9734"/>
                  <a:pt x="18033" y="9773"/>
                </a:cubicBezTo>
                <a:cubicBezTo>
                  <a:pt x="18033" y="9806"/>
                  <a:pt x="18033" y="9806"/>
                  <a:pt x="18033" y="9748"/>
                </a:cubicBezTo>
              </a:path>
              <a:path w="1861" h="8410">
                <a:moveTo>
                  <a:pt x="18107" y="9451"/>
                </a:moveTo>
                <a:cubicBezTo>
                  <a:pt x="18107" y="9492"/>
                  <a:pt x="18115" y="9508"/>
                  <a:pt x="18083" y="9500"/>
                </a:cubicBezTo>
              </a:path>
              <a:path w="1861" h="8410">
                <a:moveTo>
                  <a:pt x="17859" y="9872"/>
                </a:moveTo>
                <a:cubicBezTo>
                  <a:pt x="17835" y="9897"/>
                  <a:pt x="17827" y="9906"/>
                  <a:pt x="17810" y="9922"/>
                </a:cubicBezTo>
              </a:path>
              <a:path w="1861" h="8410">
                <a:moveTo>
                  <a:pt x="18653" y="9872"/>
                </a:moveTo>
                <a:cubicBezTo>
                  <a:pt x="18609" y="9872"/>
                  <a:pt x="18558" y="9888"/>
                  <a:pt x="18529" y="9847"/>
                </a:cubicBezTo>
                <a:cubicBezTo>
                  <a:pt x="18501" y="9807"/>
                  <a:pt x="18504" y="9790"/>
                  <a:pt x="18504" y="9748"/>
                </a:cubicBezTo>
                <a:cubicBezTo>
                  <a:pt x="18453" y="9778"/>
                  <a:pt x="18403" y="9815"/>
                  <a:pt x="18380" y="9872"/>
                </a:cubicBezTo>
                <a:cubicBezTo>
                  <a:pt x="18359" y="9924"/>
                  <a:pt x="18348" y="9954"/>
                  <a:pt x="18306" y="9996"/>
                </a:cubicBezTo>
                <a:cubicBezTo>
                  <a:pt x="18342" y="10023"/>
                  <a:pt x="18405" y="10000"/>
                  <a:pt x="18430" y="10021"/>
                </a:cubicBezTo>
                <a:cubicBezTo>
                  <a:pt x="18475" y="10059"/>
                  <a:pt x="18479" y="10117"/>
                  <a:pt x="18479" y="10170"/>
                </a:cubicBezTo>
                <a:cubicBezTo>
                  <a:pt x="18479" y="10235"/>
                  <a:pt x="18505" y="10380"/>
                  <a:pt x="18455" y="10418"/>
                </a:cubicBezTo>
                <a:cubicBezTo>
                  <a:pt x="18419" y="10445"/>
                  <a:pt x="18290" y="10416"/>
                  <a:pt x="18256" y="10393"/>
                </a:cubicBezTo>
                <a:cubicBezTo>
                  <a:pt x="18207" y="10360"/>
                  <a:pt x="18145" y="10351"/>
                  <a:pt x="18107" y="10294"/>
                </a:cubicBezTo>
                <a:cubicBezTo>
                  <a:pt x="18088" y="10265"/>
                  <a:pt x="18102" y="10189"/>
                  <a:pt x="18132" y="10220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45040" y="2490840"/>
            <a:ext cx="108000" cy="196920"/>
          </a:xfrm>
          <a:custGeom>
            <a:avLst/>
            <a:gdLst/>
            <a:ahLst/>
            <a:rect l="l" t="t" r="r" b="b"/>
            <a:pathLst>
              <a:path w="298" h="546">
                <a:moveTo>
                  <a:pt x="14312" y="6921"/>
                </a:moveTo>
                <a:cubicBezTo>
                  <a:pt x="14301" y="6965"/>
                  <a:pt x="14249" y="7004"/>
                  <a:pt x="14238" y="7045"/>
                </a:cubicBezTo>
                <a:cubicBezTo>
                  <a:pt x="14220" y="7111"/>
                  <a:pt x="14203" y="7205"/>
                  <a:pt x="14163" y="7268"/>
                </a:cubicBezTo>
                <a:cubicBezTo>
                  <a:pt x="14127" y="7325"/>
                  <a:pt x="14086" y="7389"/>
                  <a:pt x="14039" y="7441"/>
                </a:cubicBezTo>
                <a:cubicBezTo>
                  <a:pt x="13975" y="7512"/>
                  <a:pt x="14053" y="7406"/>
                  <a:pt x="14064" y="73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49880" y="2463840"/>
            <a:ext cx="198360" cy="233280"/>
          </a:xfrm>
          <a:custGeom>
            <a:avLst/>
            <a:gdLst/>
            <a:ahLst/>
            <a:rect l="l" t="t" r="r" b="b"/>
            <a:pathLst>
              <a:path w="547" h="646">
                <a:moveTo>
                  <a:pt x="14784" y="6846"/>
                </a:moveTo>
                <a:cubicBezTo>
                  <a:pt x="14717" y="6891"/>
                  <a:pt x="14719" y="6928"/>
                  <a:pt x="14684" y="6995"/>
                </a:cubicBezTo>
                <a:cubicBezTo>
                  <a:pt x="14660" y="7040"/>
                  <a:pt x="14596" y="7070"/>
                  <a:pt x="14585" y="7119"/>
                </a:cubicBezTo>
                <a:cubicBezTo>
                  <a:pt x="14572" y="7178"/>
                  <a:pt x="14578" y="7266"/>
                  <a:pt x="14610" y="7317"/>
                </a:cubicBezTo>
                <a:cubicBezTo>
                  <a:pt x="14654" y="7388"/>
                  <a:pt x="14665" y="7393"/>
                  <a:pt x="14734" y="7417"/>
                </a:cubicBezTo>
                <a:cubicBezTo>
                  <a:pt x="14775" y="7431"/>
                  <a:pt x="14850" y="7450"/>
                  <a:pt x="14883" y="7466"/>
                </a:cubicBezTo>
                <a:cubicBezTo>
                  <a:pt x="14958" y="7503"/>
                  <a:pt x="14943" y="7482"/>
                  <a:pt x="15007" y="7441"/>
                </a:cubicBezTo>
                <a:cubicBezTo>
                  <a:pt x="15080" y="7395"/>
                  <a:pt x="15123" y="7408"/>
                  <a:pt x="15131" y="7317"/>
                </a:cubicBezTo>
                <a:cubicBezTo>
                  <a:pt x="15135" y="7269"/>
                  <a:pt x="15071" y="7226"/>
                  <a:pt x="15032" y="7218"/>
                </a:cubicBezTo>
                <a:cubicBezTo>
                  <a:pt x="15030" y="7218"/>
                  <a:pt x="14933" y="7242"/>
                  <a:pt x="14932" y="7243"/>
                </a:cubicBezTo>
                <a:cubicBezTo>
                  <a:pt x="14893" y="7287"/>
                  <a:pt x="14837" y="7328"/>
                  <a:pt x="14833" y="7392"/>
                </a:cubicBezTo>
                <a:cubicBezTo>
                  <a:pt x="14828" y="7472"/>
                  <a:pt x="14832" y="7480"/>
                  <a:pt x="14908" y="74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02120" y="1830240"/>
            <a:ext cx="366840" cy="223920"/>
          </a:xfrm>
          <a:custGeom>
            <a:avLst/>
            <a:gdLst/>
            <a:ahLst/>
            <a:rect l="l" t="t" r="r" b="b"/>
            <a:pathLst>
              <a:path w="1018" h="621">
                <a:moveTo>
                  <a:pt x="13791" y="5655"/>
                </a:moveTo>
                <a:lnTo>
                  <a:pt x="13791" y="5655"/>
                </a:lnTo>
              </a:path>
              <a:path w="1018" h="621">
                <a:moveTo>
                  <a:pt x="13965" y="5110"/>
                </a:moveTo>
                <a:cubicBezTo>
                  <a:pt x="14008" y="5110"/>
                  <a:pt x="13918" y="5125"/>
                  <a:pt x="13891" y="5159"/>
                </a:cubicBezTo>
                <a:cubicBezTo>
                  <a:pt x="13870" y="5186"/>
                  <a:pt x="13827" y="5275"/>
                  <a:pt x="13816" y="5308"/>
                </a:cubicBezTo>
                <a:cubicBezTo>
                  <a:pt x="13803" y="5348"/>
                  <a:pt x="13765" y="5419"/>
                  <a:pt x="13742" y="5457"/>
                </a:cubicBezTo>
                <a:cubicBezTo>
                  <a:pt x="13711" y="5509"/>
                  <a:pt x="13693" y="5551"/>
                  <a:pt x="13667" y="5606"/>
                </a:cubicBezTo>
                <a:cubicBezTo>
                  <a:pt x="13616" y="5715"/>
                  <a:pt x="13590" y="5709"/>
                  <a:pt x="13667" y="5606"/>
                </a:cubicBezTo>
              </a:path>
              <a:path w="1018" h="621">
                <a:moveTo>
                  <a:pt x="14436" y="5085"/>
                </a:moveTo>
                <a:cubicBezTo>
                  <a:pt x="14428" y="5120"/>
                  <a:pt x="14382" y="5193"/>
                  <a:pt x="14362" y="5209"/>
                </a:cubicBezTo>
                <a:cubicBezTo>
                  <a:pt x="14311" y="5251"/>
                  <a:pt x="14264" y="5306"/>
                  <a:pt x="14238" y="5358"/>
                </a:cubicBezTo>
                <a:cubicBezTo>
                  <a:pt x="14214" y="5405"/>
                  <a:pt x="14155" y="5471"/>
                  <a:pt x="14188" y="5531"/>
                </a:cubicBezTo>
                <a:cubicBezTo>
                  <a:pt x="14201" y="5554"/>
                  <a:pt x="14286" y="5654"/>
                  <a:pt x="14288" y="5655"/>
                </a:cubicBezTo>
                <a:cubicBezTo>
                  <a:pt x="14345" y="5669"/>
                  <a:pt x="14392" y="5644"/>
                  <a:pt x="14436" y="5631"/>
                </a:cubicBezTo>
                <a:cubicBezTo>
                  <a:pt x="14507" y="5610"/>
                  <a:pt x="14529" y="5598"/>
                  <a:pt x="14585" y="5556"/>
                </a:cubicBezTo>
                <a:cubicBezTo>
                  <a:pt x="14625" y="5526"/>
                  <a:pt x="14679" y="5485"/>
                  <a:pt x="14610" y="5432"/>
                </a:cubicBezTo>
                <a:cubicBezTo>
                  <a:pt x="14562" y="5395"/>
                  <a:pt x="14510" y="5400"/>
                  <a:pt x="14461" y="5432"/>
                </a:cubicBezTo>
                <a:cubicBezTo>
                  <a:pt x="14418" y="5461"/>
                  <a:pt x="14402" y="5481"/>
                  <a:pt x="14387" y="5531"/>
                </a:cubicBezTo>
                <a:cubicBezTo>
                  <a:pt x="14373" y="5576"/>
                  <a:pt x="14290" y="5651"/>
                  <a:pt x="14337" y="5655"/>
                </a:cubicBezTo>
                <a:cubicBezTo>
                  <a:pt x="14367" y="5626"/>
                  <a:pt x="14379" y="5612"/>
                  <a:pt x="14387" y="55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24120" y="1776240"/>
            <a:ext cx="2205000" cy="4010040"/>
          </a:xfrm>
          <a:custGeom>
            <a:avLst/>
            <a:gdLst/>
            <a:ahLst/>
            <a:rect l="l" t="t" r="r" b="b"/>
            <a:pathLst>
              <a:path w="6128" h="11138">
                <a:moveTo>
                  <a:pt x="7913" y="7069"/>
                </a:moveTo>
                <a:cubicBezTo>
                  <a:pt x="7959" y="7024"/>
                  <a:pt x="7992" y="7031"/>
                  <a:pt x="8037" y="6995"/>
                </a:cubicBezTo>
                <a:cubicBezTo>
                  <a:pt x="8106" y="6940"/>
                  <a:pt x="8132" y="6991"/>
                  <a:pt x="8186" y="7045"/>
                </a:cubicBezTo>
                <a:cubicBezTo>
                  <a:pt x="8274" y="7133"/>
                  <a:pt x="8142" y="7162"/>
                  <a:pt x="8111" y="7218"/>
                </a:cubicBezTo>
                <a:cubicBezTo>
                  <a:pt x="8082" y="7271"/>
                  <a:pt x="8055" y="7322"/>
                  <a:pt x="7987" y="7367"/>
                </a:cubicBezTo>
                <a:cubicBezTo>
                  <a:pt x="7924" y="7409"/>
                  <a:pt x="7917" y="7409"/>
                  <a:pt x="7863" y="7466"/>
                </a:cubicBezTo>
                <a:cubicBezTo>
                  <a:pt x="7821" y="7508"/>
                  <a:pt x="7813" y="7515"/>
                  <a:pt x="7789" y="7541"/>
                </a:cubicBezTo>
                <a:cubicBezTo>
                  <a:pt x="7834" y="7518"/>
                  <a:pt x="7885" y="7491"/>
                  <a:pt x="7938" y="7466"/>
                </a:cubicBezTo>
                <a:cubicBezTo>
                  <a:pt x="7960" y="7443"/>
                  <a:pt x="7965" y="7435"/>
                  <a:pt x="7987" y="7441"/>
                </a:cubicBezTo>
                <a:cubicBezTo>
                  <a:pt x="8006" y="7478"/>
                  <a:pt x="8042" y="7593"/>
                  <a:pt x="8062" y="7615"/>
                </a:cubicBezTo>
                <a:cubicBezTo>
                  <a:pt x="8129" y="7689"/>
                  <a:pt x="8168" y="7644"/>
                  <a:pt x="8235" y="7590"/>
                </a:cubicBezTo>
                <a:cubicBezTo>
                  <a:pt x="8243" y="7582"/>
                  <a:pt x="8252" y="7573"/>
                  <a:pt x="8260" y="7565"/>
                </a:cubicBezTo>
              </a:path>
              <a:path w="6128" h="11138">
                <a:moveTo>
                  <a:pt x="9128" y="7045"/>
                </a:moveTo>
                <a:cubicBezTo>
                  <a:pt x="9057" y="7055"/>
                  <a:pt x="9035" y="7069"/>
                  <a:pt x="8954" y="7069"/>
                </a:cubicBezTo>
                <a:cubicBezTo>
                  <a:pt x="8894" y="7069"/>
                  <a:pt x="8871" y="7045"/>
                  <a:pt x="8806" y="7045"/>
                </a:cubicBezTo>
                <a:cubicBezTo>
                  <a:pt x="8750" y="7045"/>
                  <a:pt x="8756" y="7102"/>
                  <a:pt x="8756" y="7144"/>
                </a:cubicBezTo>
                <a:cubicBezTo>
                  <a:pt x="8756" y="7203"/>
                  <a:pt x="8739" y="7250"/>
                  <a:pt x="8706" y="7293"/>
                </a:cubicBezTo>
                <a:cubicBezTo>
                  <a:pt x="8738" y="7269"/>
                  <a:pt x="8788" y="7254"/>
                  <a:pt x="8830" y="7243"/>
                </a:cubicBezTo>
                <a:cubicBezTo>
                  <a:pt x="8878" y="7231"/>
                  <a:pt x="8939" y="7241"/>
                  <a:pt x="8979" y="7268"/>
                </a:cubicBezTo>
                <a:cubicBezTo>
                  <a:pt x="9014" y="7292"/>
                  <a:pt x="9085" y="7324"/>
                  <a:pt x="9103" y="7367"/>
                </a:cubicBezTo>
                <a:cubicBezTo>
                  <a:pt x="9124" y="7417"/>
                  <a:pt x="9108" y="7547"/>
                  <a:pt x="9079" y="7590"/>
                </a:cubicBezTo>
                <a:cubicBezTo>
                  <a:pt x="9046" y="7640"/>
                  <a:pt x="8996" y="7640"/>
                  <a:pt x="8954" y="7665"/>
                </a:cubicBezTo>
                <a:cubicBezTo>
                  <a:pt x="8886" y="7705"/>
                  <a:pt x="8854" y="7681"/>
                  <a:pt x="8781" y="7665"/>
                </a:cubicBezTo>
                <a:cubicBezTo>
                  <a:pt x="8748" y="7658"/>
                  <a:pt x="8676" y="7652"/>
                  <a:pt x="8657" y="7689"/>
                </a:cubicBezTo>
                <a:cubicBezTo>
                  <a:pt x="8657" y="7697"/>
                  <a:pt x="8657" y="7706"/>
                  <a:pt x="8657" y="7714"/>
                </a:cubicBezTo>
              </a:path>
              <a:path w="6128" h="11138">
                <a:moveTo>
                  <a:pt x="7764" y="10790"/>
                </a:moveTo>
                <a:cubicBezTo>
                  <a:pt x="7753" y="10843"/>
                  <a:pt x="7727" y="10887"/>
                  <a:pt x="7714" y="10939"/>
                </a:cubicBezTo>
                <a:cubicBezTo>
                  <a:pt x="7701" y="10989"/>
                  <a:pt x="7652" y="11032"/>
                  <a:pt x="7640" y="11088"/>
                </a:cubicBezTo>
                <a:cubicBezTo>
                  <a:pt x="7626" y="11151"/>
                  <a:pt x="7587" y="11201"/>
                  <a:pt x="7565" y="11261"/>
                </a:cubicBezTo>
                <a:cubicBezTo>
                  <a:pt x="7565" y="11296"/>
                  <a:pt x="7570" y="11295"/>
                  <a:pt x="7590" y="11237"/>
                </a:cubicBezTo>
              </a:path>
              <a:path w="6128" h="11138">
                <a:moveTo>
                  <a:pt x="8186" y="10815"/>
                </a:moveTo>
                <a:cubicBezTo>
                  <a:pt x="8161" y="10864"/>
                  <a:pt x="8131" y="10911"/>
                  <a:pt x="8086" y="10964"/>
                </a:cubicBezTo>
                <a:cubicBezTo>
                  <a:pt x="8058" y="10997"/>
                  <a:pt x="8042" y="11042"/>
                  <a:pt x="8037" y="11088"/>
                </a:cubicBezTo>
                <a:cubicBezTo>
                  <a:pt x="8036" y="11099"/>
                  <a:pt x="8119" y="11229"/>
                  <a:pt x="8136" y="11237"/>
                </a:cubicBezTo>
                <a:cubicBezTo>
                  <a:pt x="8185" y="11262"/>
                  <a:pt x="8274" y="11223"/>
                  <a:pt x="8310" y="11212"/>
                </a:cubicBezTo>
                <a:cubicBezTo>
                  <a:pt x="8423" y="11177"/>
                  <a:pt x="8406" y="11150"/>
                  <a:pt x="8458" y="11063"/>
                </a:cubicBezTo>
                <a:cubicBezTo>
                  <a:pt x="8487" y="11015"/>
                  <a:pt x="8498" y="10991"/>
                  <a:pt x="8458" y="10939"/>
                </a:cubicBezTo>
                <a:cubicBezTo>
                  <a:pt x="8429" y="10902"/>
                  <a:pt x="8379" y="10864"/>
                  <a:pt x="8359" y="10840"/>
                </a:cubicBezTo>
                <a:cubicBezTo>
                  <a:pt x="8337" y="10796"/>
                  <a:pt x="8334" y="10785"/>
                  <a:pt x="8310" y="10765"/>
                </a:cubicBezTo>
                <a:cubicBezTo>
                  <a:pt x="8299" y="10768"/>
                  <a:pt x="8179" y="10818"/>
                  <a:pt x="8186" y="10840"/>
                </a:cubicBezTo>
                <a:cubicBezTo>
                  <a:pt x="8194" y="10840"/>
                  <a:pt x="8202" y="10840"/>
                  <a:pt x="8210" y="10840"/>
                </a:cubicBezTo>
              </a:path>
              <a:path w="6128" h="11138">
                <a:moveTo>
                  <a:pt x="8954" y="10765"/>
                </a:moveTo>
                <a:cubicBezTo>
                  <a:pt x="8898" y="10823"/>
                  <a:pt x="8879" y="10846"/>
                  <a:pt x="8855" y="10914"/>
                </a:cubicBezTo>
                <a:cubicBezTo>
                  <a:pt x="8830" y="10985"/>
                  <a:pt x="8806" y="11012"/>
                  <a:pt x="8806" y="11088"/>
                </a:cubicBezTo>
                <a:cubicBezTo>
                  <a:pt x="8806" y="11146"/>
                  <a:pt x="8806" y="11203"/>
                  <a:pt x="8806" y="11261"/>
                </a:cubicBezTo>
                <a:cubicBezTo>
                  <a:pt x="8890" y="11261"/>
                  <a:pt x="8984" y="11277"/>
                  <a:pt x="9054" y="11237"/>
                </a:cubicBezTo>
                <a:cubicBezTo>
                  <a:pt x="9113" y="11203"/>
                  <a:pt x="9143" y="11170"/>
                  <a:pt x="9178" y="11112"/>
                </a:cubicBezTo>
                <a:cubicBezTo>
                  <a:pt x="9211" y="11058"/>
                  <a:pt x="9227" y="11002"/>
                  <a:pt x="9227" y="10939"/>
                </a:cubicBezTo>
                <a:cubicBezTo>
                  <a:pt x="9227" y="10890"/>
                  <a:pt x="9194" y="10841"/>
                  <a:pt x="9153" y="10815"/>
                </a:cubicBezTo>
                <a:cubicBezTo>
                  <a:pt x="9142" y="10808"/>
                  <a:pt x="9041" y="10728"/>
                  <a:pt x="9029" y="10740"/>
                </a:cubicBezTo>
                <a:cubicBezTo>
                  <a:pt x="9029" y="10748"/>
                  <a:pt x="9029" y="10757"/>
                  <a:pt x="9029" y="10765"/>
                </a:cubicBezTo>
              </a:path>
              <a:path w="6128" h="11138">
                <a:moveTo>
                  <a:pt x="11708" y="5457"/>
                </a:moveTo>
                <a:cubicBezTo>
                  <a:pt x="11691" y="5457"/>
                  <a:pt x="11675" y="5457"/>
                  <a:pt x="11658" y="5457"/>
                </a:cubicBezTo>
                <a:cubicBezTo>
                  <a:pt x="11675" y="5537"/>
                  <a:pt x="11618" y="5510"/>
                  <a:pt x="11658" y="5581"/>
                </a:cubicBezTo>
                <a:cubicBezTo>
                  <a:pt x="11681" y="5621"/>
                  <a:pt x="11758" y="5658"/>
                  <a:pt x="11782" y="5680"/>
                </a:cubicBezTo>
                <a:cubicBezTo>
                  <a:pt x="11846" y="5739"/>
                  <a:pt x="11902" y="5782"/>
                  <a:pt x="11956" y="5854"/>
                </a:cubicBezTo>
                <a:cubicBezTo>
                  <a:pt x="11997" y="5908"/>
                  <a:pt x="12054" y="5965"/>
                  <a:pt x="12080" y="6028"/>
                </a:cubicBezTo>
                <a:cubicBezTo>
                  <a:pt x="12110" y="6099"/>
                  <a:pt x="12121" y="6175"/>
                  <a:pt x="12129" y="6251"/>
                </a:cubicBezTo>
                <a:cubicBezTo>
                  <a:pt x="12143" y="6386"/>
                  <a:pt x="12123" y="6521"/>
                  <a:pt x="12105" y="6648"/>
                </a:cubicBezTo>
                <a:cubicBezTo>
                  <a:pt x="12097" y="6706"/>
                  <a:pt x="12088" y="6741"/>
                  <a:pt x="12080" y="6796"/>
                </a:cubicBezTo>
                <a:cubicBezTo>
                  <a:pt x="12073" y="6840"/>
                  <a:pt x="12059" y="6875"/>
                  <a:pt x="12055" y="6921"/>
                </a:cubicBezTo>
                <a:cubicBezTo>
                  <a:pt x="12044" y="7049"/>
                  <a:pt x="12057" y="7170"/>
                  <a:pt x="12030" y="7293"/>
                </a:cubicBezTo>
                <a:cubicBezTo>
                  <a:pt x="12015" y="7360"/>
                  <a:pt x="11992" y="7441"/>
                  <a:pt x="11981" y="7516"/>
                </a:cubicBezTo>
                <a:cubicBezTo>
                  <a:pt x="11968" y="7598"/>
                  <a:pt x="11968" y="7682"/>
                  <a:pt x="11956" y="7764"/>
                </a:cubicBezTo>
                <a:cubicBezTo>
                  <a:pt x="11943" y="7851"/>
                  <a:pt x="11912" y="7947"/>
                  <a:pt x="11906" y="8037"/>
                </a:cubicBezTo>
                <a:cubicBezTo>
                  <a:pt x="11894" y="8216"/>
                  <a:pt x="11890" y="8417"/>
                  <a:pt x="11881" y="8582"/>
                </a:cubicBezTo>
                <a:cubicBezTo>
                  <a:pt x="11872" y="8748"/>
                  <a:pt x="11879" y="8871"/>
                  <a:pt x="11832" y="9029"/>
                </a:cubicBezTo>
                <a:cubicBezTo>
                  <a:pt x="11808" y="9109"/>
                  <a:pt x="11777" y="9195"/>
                  <a:pt x="11757" y="9277"/>
                </a:cubicBezTo>
                <a:cubicBezTo>
                  <a:pt x="11745" y="9327"/>
                  <a:pt x="11741" y="9380"/>
                  <a:pt x="11733" y="9426"/>
                </a:cubicBezTo>
                <a:cubicBezTo>
                  <a:pt x="11722" y="9486"/>
                  <a:pt x="11712" y="9518"/>
                  <a:pt x="11708" y="9575"/>
                </a:cubicBezTo>
                <a:cubicBezTo>
                  <a:pt x="11650" y="10353"/>
                  <a:pt x="11797" y="11180"/>
                  <a:pt x="11658" y="11931"/>
                </a:cubicBezTo>
                <a:cubicBezTo>
                  <a:pt x="11647" y="11990"/>
                  <a:pt x="11643" y="12046"/>
                  <a:pt x="11633" y="12105"/>
                </a:cubicBezTo>
                <a:cubicBezTo>
                  <a:pt x="11622" y="12174"/>
                  <a:pt x="11597" y="12245"/>
                  <a:pt x="11584" y="12303"/>
                </a:cubicBezTo>
                <a:cubicBezTo>
                  <a:pt x="11572" y="12356"/>
                  <a:pt x="11573" y="12398"/>
                  <a:pt x="11559" y="12452"/>
                </a:cubicBezTo>
                <a:cubicBezTo>
                  <a:pt x="11549" y="12493"/>
                  <a:pt x="11546" y="12532"/>
                  <a:pt x="11534" y="12576"/>
                </a:cubicBezTo>
                <a:cubicBezTo>
                  <a:pt x="11521" y="12626"/>
                  <a:pt x="11504" y="12705"/>
                  <a:pt x="11485" y="12750"/>
                </a:cubicBezTo>
                <a:cubicBezTo>
                  <a:pt x="11468" y="12790"/>
                  <a:pt x="11431" y="12833"/>
                  <a:pt x="11410" y="12874"/>
                </a:cubicBezTo>
                <a:cubicBezTo>
                  <a:pt x="11373" y="12948"/>
                  <a:pt x="11342" y="13029"/>
                  <a:pt x="11286" y="13097"/>
                </a:cubicBezTo>
                <a:cubicBezTo>
                  <a:pt x="11248" y="13143"/>
                  <a:pt x="11196" y="13216"/>
                  <a:pt x="11162" y="13246"/>
                </a:cubicBezTo>
                <a:cubicBezTo>
                  <a:pt x="11127" y="13277"/>
                  <a:pt x="11048" y="13298"/>
                  <a:pt x="11013" y="13320"/>
                </a:cubicBezTo>
                <a:cubicBezTo>
                  <a:pt x="10979" y="13341"/>
                  <a:pt x="10926" y="13388"/>
                  <a:pt x="10889" y="13395"/>
                </a:cubicBezTo>
                <a:cubicBezTo>
                  <a:pt x="10845" y="13395"/>
                  <a:pt x="10831" y="13398"/>
                  <a:pt x="10815" y="13370"/>
                </a:cubicBezTo>
                <a:cubicBezTo>
                  <a:pt x="10878" y="13310"/>
                  <a:pt x="10928" y="13254"/>
                  <a:pt x="10964" y="13196"/>
                </a:cubicBezTo>
                <a:cubicBezTo>
                  <a:pt x="11003" y="13132"/>
                  <a:pt x="11007" y="13103"/>
                  <a:pt x="11038" y="13047"/>
                </a:cubicBezTo>
                <a:cubicBezTo>
                  <a:pt x="11046" y="13031"/>
                  <a:pt x="11055" y="13014"/>
                  <a:pt x="11063" y="12998"/>
                </a:cubicBezTo>
                <a:cubicBezTo>
                  <a:pt x="11029" y="13058"/>
                  <a:pt x="10994" y="13113"/>
                  <a:pt x="10964" y="13171"/>
                </a:cubicBezTo>
                <a:cubicBezTo>
                  <a:pt x="10936" y="13225"/>
                  <a:pt x="10915" y="13275"/>
                  <a:pt x="10889" y="13320"/>
                </a:cubicBezTo>
                <a:cubicBezTo>
                  <a:pt x="10864" y="13364"/>
                  <a:pt x="10843" y="13406"/>
                  <a:pt x="10815" y="13444"/>
                </a:cubicBezTo>
                <a:cubicBezTo>
                  <a:pt x="10798" y="13461"/>
                  <a:pt x="10782" y="13477"/>
                  <a:pt x="10765" y="13494"/>
                </a:cubicBezTo>
                <a:cubicBezTo>
                  <a:pt x="10811" y="13517"/>
                  <a:pt x="10841" y="13551"/>
                  <a:pt x="10889" y="13568"/>
                </a:cubicBezTo>
                <a:cubicBezTo>
                  <a:pt x="10957" y="13592"/>
                  <a:pt x="10950" y="13592"/>
                  <a:pt x="11013" y="13593"/>
                </a:cubicBezTo>
                <a:cubicBezTo>
                  <a:pt x="11083" y="13595"/>
                  <a:pt x="11096" y="13550"/>
                  <a:pt x="11162" y="13543"/>
                </a:cubicBezTo>
                <a:cubicBezTo>
                  <a:pt x="11221" y="13537"/>
                  <a:pt x="11248" y="13533"/>
                  <a:pt x="11286" y="13543"/>
                </a:cubicBezTo>
                <a:cubicBezTo>
                  <a:pt x="11286" y="13576"/>
                  <a:pt x="11278" y="13584"/>
                  <a:pt x="11237" y="13568"/>
                </a:cubicBezTo>
              </a:path>
              <a:path w="6128" h="11138">
                <a:moveTo>
                  <a:pt x="13692" y="4936"/>
                </a:moveTo>
                <a:cubicBezTo>
                  <a:pt x="13564" y="4936"/>
                  <a:pt x="13446" y="4917"/>
                  <a:pt x="13345" y="4986"/>
                </a:cubicBezTo>
                <a:cubicBezTo>
                  <a:pt x="13306" y="5013"/>
                  <a:pt x="13226" y="5068"/>
                  <a:pt x="13196" y="5110"/>
                </a:cubicBezTo>
                <a:cubicBezTo>
                  <a:pt x="13173" y="5141"/>
                  <a:pt x="13163" y="5197"/>
                  <a:pt x="13146" y="5234"/>
                </a:cubicBezTo>
                <a:cubicBezTo>
                  <a:pt x="13112" y="5308"/>
                  <a:pt x="13119" y="5357"/>
                  <a:pt x="13097" y="5432"/>
                </a:cubicBezTo>
                <a:cubicBezTo>
                  <a:pt x="13086" y="5470"/>
                  <a:pt x="13058" y="5512"/>
                  <a:pt x="13047" y="5556"/>
                </a:cubicBezTo>
                <a:cubicBezTo>
                  <a:pt x="13031" y="5622"/>
                  <a:pt x="13013" y="5686"/>
                  <a:pt x="12998" y="5755"/>
                </a:cubicBezTo>
                <a:cubicBezTo>
                  <a:pt x="12984" y="5818"/>
                  <a:pt x="12988" y="5869"/>
                  <a:pt x="12973" y="5928"/>
                </a:cubicBezTo>
                <a:cubicBezTo>
                  <a:pt x="12959" y="5984"/>
                  <a:pt x="12932" y="6039"/>
                  <a:pt x="12923" y="6102"/>
                </a:cubicBezTo>
                <a:cubicBezTo>
                  <a:pt x="12908" y="6211"/>
                  <a:pt x="12925" y="6319"/>
                  <a:pt x="12898" y="6424"/>
                </a:cubicBezTo>
                <a:cubicBezTo>
                  <a:pt x="12866" y="6548"/>
                  <a:pt x="12832" y="6640"/>
                  <a:pt x="12824" y="6772"/>
                </a:cubicBezTo>
                <a:cubicBezTo>
                  <a:pt x="12819" y="6855"/>
                  <a:pt x="12817" y="6918"/>
                  <a:pt x="12799" y="6995"/>
                </a:cubicBezTo>
                <a:cubicBezTo>
                  <a:pt x="12781" y="7072"/>
                  <a:pt x="12747" y="7139"/>
                  <a:pt x="12725" y="7218"/>
                </a:cubicBezTo>
                <a:cubicBezTo>
                  <a:pt x="12709" y="7275"/>
                  <a:pt x="12684" y="7356"/>
                  <a:pt x="12675" y="7417"/>
                </a:cubicBezTo>
                <a:cubicBezTo>
                  <a:pt x="12669" y="7461"/>
                  <a:pt x="12653" y="7534"/>
                  <a:pt x="12650" y="7565"/>
                </a:cubicBezTo>
                <a:cubicBezTo>
                  <a:pt x="12644" y="7624"/>
                  <a:pt x="12630" y="7716"/>
                  <a:pt x="12626" y="7764"/>
                </a:cubicBezTo>
                <a:cubicBezTo>
                  <a:pt x="12622" y="7821"/>
                  <a:pt x="12605" y="7895"/>
                  <a:pt x="12601" y="7938"/>
                </a:cubicBezTo>
                <a:cubicBezTo>
                  <a:pt x="12593" y="8027"/>
                  <a:pt x="12591" y="8101"/>
                  <a:pt x="12576" y="8186"/>
                </a:cubicBezTo>
                <a:cubicBezTo>
                  <a:pt x="12564" y="8253"/>
                  <a:pt x="12564" y="8318"/>
                  <a:pt x="12551" y="8384"/>
                </a:cubicBezTo>
                <a:cubicBezTo>
                  <a:pt x="12533" y="8476"/>
                  <a:pt x="12528" y="8559"/>
                  <a:pt x="12526" y="8657"/>
                </a:cubicBezTo>
                <a:cubicBezTo>
                  <a:pt x="12523" y="8809"/>
                  <a:pt x="12511" y="8954"/>
                  <a:pt x="12502" y="9103"/>
                </a:cubicBezTo>
                <a:cubicBezTo>
                  <a:pt x="12480" y="9480"/>
                  <a:pt x="12477" y="9871"/>
                  <a:pt x="12477" y="10244"/>
                </a:cubicBezTo>
                <a:cubicBezTo>
                  <a:pt x="12477" y="10531"/>
                  <a:pt x="12498" y="10831"/>
                  <a:pt x="12452" y="11112"/>
                </a:cubicBezTo>
                <a:cubicBezTo>
                  <a:pt x="12442" y="11173"/>
                  <a:pt x="12413" y="11228"/>
                  <a:pt x="12402" y="11286"/>
                </a:cubicBezTo>
                <a:cubicBezTo>
                  <a:pt x="12387" y="11361"/>
                  <a:pt x="12385" y="11430"/>
                  <a:pt x="12378" y="11509"/>
                </a:cubicBezTo>
              </a:path>
              <a:path w="6128" h="11138">
                <a:moveTo>
                  <a:pt x="12353" y="11435"/>
                </a:moveTo>
                <a:cubicBezTo>
                  <a:pt x="12336" y="11435"/>
                  <a:pt x="12320" y="11435"/>
                  <a:pt x="12303" y="11435"/>
                </a:cubicBezTo>
                <a:cubicBezTo>
                  <a:pt x="12300" y="11494"/>
                  <a:pt x="12281" y="11565"/>
                  <a:pt x="12278" y="11609"/>
                </a:cubicBezTo>
                <a:cubicBezTo>
                  <a:pt x="12256" y="11903"/>
                  <a:pt x="12281" y="12224"/>
                  <a:pt x="12303" y="12502"/>
                </a:cubicBezTo>
                <a:cubicBezTo>
                  <a:pt x="12329" y="12840"/>
                  <a:pt x="12267" y="13187"/>
                  <a:pt x="12328" y="13519"/>
                </a:cubicBezTo>
                <a:cubicBezTo>
                  <a:pt x="12338" y="13575"/>
                  <a:pt x="12339" y="13662"/>
                  <a:pt x="12353" y="13717"/>
                </a:cubicBezTo>
                <a:cubicBezTo>
                  <a:pt x="12376" y="13807"/>
                  <a:pt x="12389" y="13873"/>
                  <a:pt x="12402" y="13965"/>
                </a:cubicBezTo>
                <a:cubicBezTo>
                  <a:pt x="12416" y="14065"/>
                  <a:pt x="12442" y="14153"/>
                  <a:pt x="12477" y="14238"/>
                </a:cubicBezTo>
                <a:cubicBezTo>
                  <a:pt x="12514" y="14328"/>
                  <a:pt x="12575" y="14416"/>
                  <a:pt x="12601" y="14511"/>
                </a:cubicBezTo>
                <a:cubicBezTo>
                  <a:pt x="12631" y="14619"/>
                  <a:pt x="12645" y="14725"/>
                  <a:pt x="12675" y="14833"/>
                </a:cubicBezTo>
                <a:cubicBezTo>
                  <a:pt x="12694" y="14903"/>
                  <a:pt x="12723" y="14966"/>
                  <a:pt x="12750" y="15032"/>
                </a:cubicBezTo>
                <a:cubicBezTo>
                  <a:pt x="12775" y="15093"/>
                  <a:pt x="12777" y="15172"/>
                  <a:pt x="12799" y="15230"/>
                </a:cubicBezTo>
                <a:cubicBezTo>
                  <a:pt x="12813" y="15267"/>
                  <a:pt x="12852" y="15323"/>
                  <a:pt x="12874" y="15354"/>
                </a:cubicBezTo>
                <a:cubicBezTo>
                  <a:pt x="12920" y="15418"/>
                  <a:pt x="12975" y="15476"/>
                  <a:pt x="13022" y="15528"/>
                </a:cubicBezTo>
                <a:cubicBezTo>
                  <a:pt x="13056" y="15565"/>
                  <a:pt x="13115" y="15595"/>
                  <a:pt x="13146" y="15627"/>
                </a:cubicBezTo>
                <a:cubicBezTo>
                  <a:pt x="13197" y="15680"/>
                  <a:pt x="13212" y="15707"/>
                  <a:pt x="13271" y="15751"/>
                </a:cubicBezTo>
                <a:cubicBezTo>
                  <a:pt x="13303" y="15775"/>
                  <a:pt x="13339" y="15784"/>
                  <a:pt x="13370" y="15801"/>
                </a:cubicBezTo>
                <a:cubicBezTo>
                  <a:pt x="13349" y="15753"/>
                  <a:pt x="13312" y="15697"/>
                  <a:pt x="13295" y="15652"/>
                </a:cubicBezTo>
                <a:cubicBezTo>
                  <a:pt x="13269" y="15581"/>
                  <a:pt x="13285" y="15524"/>
                  <a:pt x="13271" y="15453"/>
                </a:cubicBezTo>
                <a:cubicBezTo>
                  <a:pt x="13242" y="15425"/>
                  <a:pt x="13234" y="15412"/>
                  <a:pt x="13246" y="15379"/>
                </a:cubicBezTo>
                <a:cubicBezTo>
                  <a:pt x="13250" y="15455"/>
                  <a:pt x="13246" y="15532"/>
                  <a:pt x="13271" y="15602"/>
                </a:cubicBezTo>
                <a:cubicBezTo>
                  <a:pt x="13286" y="15644"/>
                  <a:pt x="13321" y="15686"/>
                  <a:pt x="13345" y="15726"/>
                </a:cubicBezTo>
                <a:cubicBezTo>
                  <a:pt x="13382" y="15787"/>
                  <a:pt x="13432" y="15839"/>
                  <a:pt x="13469" y="15900"/>
                </a:cubicBezTo>
                <a:cubicBezTo>
                  <a:pt x="13477" y="15916"/>
                  <a:pt x="13486" y="15933"/>
                  <a:pt x="13494" y="15949"/>
                </a:cubicBezTo>
                <a:cubicBezTo>
                  <a:pt x="13437" y="15944"/>
                  <a:pt x="13384" y="15909"/>
                  <a:pt x="13320" y="15925"/>
                </a:cubicBezTo>
                <a:cubicBezTo>
                  <a:pt x="13265" y="15939"/>
                  <a:pt x="13180" y="15987"/>
                  <a:pt x="13146" y="16024"/>
                </a:cubicBezTo>
                <a:cubicBezTo>
                  <a:pt x="13051" y="16126"/>
                  <a:pt x="13162" y="16053"/>
                  <a:pt x="13146" y="160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116920" y="1820880"/>
            <a:ext cx="500040" cy="2965320"/>
          </a:xfrm>
          <a:custGeom>
            <a:avLst/>
            <a:gdLst/>
            <a:ahLst/>
            <a:rect l="l" t="t" r="r" b="b"/>
            <a:pathLst>
              <a:path w="1391" h="8236">
                <a:moveTo>
                  <a:pt x="23267" y="5060"/>
                </a:moveTo>
                <a:cubicBezTo>
                  <a:pt x="23408" y="5116"/>
                  <a:pt x="23389" y="5051"/>
                  <a:pt x="23465" y="5209"/>
                </a:cubicBezTo>
                <a:cubicBezTo>
                  <a:pt x="23496" y="5274"/>
                  <a:pt x="23511" y="5283"/>
                  <a:pt x="23515" y="5358"/>
                </a:cubicBezTo>
                <a:cubicBezTo>
                  <a:pt x="23518" y="5421"/>
                  <a:pt x="23498" y="5470"/>
                  <a:pt x="23490" y="5531"/>
                </a:cubicBezTo>
                <a:cubicBezTo>
                  <a:pt x="23480" y="5606"/>
                  <a:pt x="23467" y="5673"/>
                  <a:pt x="23465" y="5755"/>
                </a:cubicBezTo>
                <a:cubicBezTo>
                  <a:pt x="23462" y="5868"/>
                  <a:pt x="23473" y="5994"/>
                  <a:pt x="23440" y="6102"/>
                </a:cubicBezTo>
                <a:cubicBezTo>
                  <a:pt x="23416" y="6180"/>
                  <a:pt x="23381" y="6247"/>
                  <a:pt x="23366" y="6325"/>
                </a:cubicBezTo>
                <a:cubicBezTo>
                  <a:pt x="23345" y="6437"/>
                  <a:pt x="23320" y="6539"/>
                  <a:pt x="23292" y="6648"/>
                </a:cubicBezTo>
                <a:cubicBezTo>
                  <a:pt x="23271" y="6729"/>
                  <a:pt x="23253" y="6812"/>
                  <a:pt x="23242" y="6896"/>
                </a:cubicBezTo>
                <a:cubicBezTo>
                  <a:pt x="23231" y="6981"/>
                  <a:pt x="23229" y="7063"/>
                  <a:pt x="23217" y="7144"/>
                </a:cubicBezTo>
                <a:cubicBezTo>
                  <a:pt x="23206" y="7218"/>
                  <a:pt x="23190" y="7319"/>
                  <a:pt x="23168" y="7392"/>
                </a:cubicBezTo>
                <a:cubicBezTo>
                  <a:pt x="23149" y="7456"/>
                  <a:pt x="23134" y="7494"/>
                  <a:pt x="23118" y="7565"/>
                </a:cubicBezTo>
                <a:cubicBezTo>
                  <a:pt x="23110" y="7602"/>
                  <a:pt x="23105" y="7671"/>
                  <a:pt x="23093" y="7714"/>
                </a:cubicBezTo>
                <a:cubicBezTo>
                  <a:pt x="23079" y="7764"/>
                  <a:pt x="23061" y="7808"/>
                  <a:pt x="23044" y="7863"/>
                </a:cubicBezTo>
                <a:cubicBezTo>
                  <a:pt x="23023" y="7931"/>
                  <a:pt x="23007" y="7991"/>
                  <a:pt x="22994" y="8062"/>
                </a:cubicBezTo>
                <a:cubicBezTo>
                  <a:pt x="22987" y="8102"/>
                  <a:pt x="22977" y="8160"/>
                  <a:pt x="22969" y="8210"/>
                </a:cubicBezTo>
                <a:cubicBezTo>
                  <a:pt x="22962" y="8254"/>
                  <a:pt x="22947" y="8282"/>
                  <a:pt x="22944" y="8334"/>
                </a:cubicBezTo>
                <a:cubicBezTo>
                  <a:pt x="22937" y="8437"/>
                  <a:pt x="22925" y="8567"/>
                  <a:pt x="22920" y="8657"/>
                </a:cubicBezTo>
                <a:cubicBezTo>
                  <a:pt x="22896" y="9106"/>
                  <a:pt x="22888" y="9607"/>
                  <a:pt x="22944" y="10046"/>
                </a:cubicBezTo>
                <a:cubicBezTo>
                  <a:pt x="22952" y="10107"/>
                  <a:pt x="22965" y="10160"/>
                  <a:pt x="22969" y="10220"/>
                </a:cubicBezTo>
                <a:cubicBezTo>
                  <a:pt x="22995" y="10637"/>
                  <a:pt x="22898" y="11115"/>
                  <a:pt x="22994" y="11509"/>
                </a:cubicBezTo>
                <a:cubicBezTo>
                  <a:pt x="23004" y="11551"/>
                  <a:pt x="23040" y="11620"/>
                  <a:pt x="23044" y="11658"/>
                </a:cubicBezTo>
                <a:cubicBezTo>
                  <a:pt x="23057" y="11764"/>
                  <a:pt x="23062" y="11878"/>
                  <a:pt x="23068" y="11981"/>
                </a:cubicBezTo>
                <a:cubicBezTo>
                  <a:pt x="23079" y="12184"/>
                  <a:pt x="23037" y="12368"/>
                  <a:pt x="23019" y="12551"/>
                </a:cubicBezTo>
                <a:cubicBezTo>
                  <a:pt x="23009" y="12659"/>
                  <a:pt x="23045" y="12776"/>
                  <a:pt x="22994" y="12874"/>
                </a:cubicBezTo>
                <a:cubicBezTo>
                  <a:pt x="22967" y="12927"/>
                  <a:pt x="22933" y="12973"/>
                  <a:pt x="22870" y="12998"/>
                </a:cubicBezTo>
                <a:cubicBezTo>
                  <a:pt x="22797" y="13027"/>
                  <a:pt x="22651" y="12998"/>
                  <a:pt x="22572" y="12998"/>
                </a:cubicBezTo>
                <a:cubicBezTo>
                  <a:pt x="22607" y="12957"/>
                  <a:pt x="22633" y="12915"/>
                  <a:pt x="22671" y="12874"/>
                </a:cubicBezTo>
                <a:cubicBezTo>
                  <a:pt x="22713" y="12829"/>
                  <a:pt x="22757" y="12791"/>
                  <a:pt x="22796" y="12750"/>
                </a:cubicBezTo>
                <a:cubicBezTo>
                  <a:pt x="22738" y="12823"/>
                  <a:pt x="22680" y="12889"/>
                  <a:pt x="22622" y="12948"/>
                </a:cubicBezTo>
                <a:cubicBezTo>
                  <a:pt x="22599" y="12972"/>
                  <a:pt x="22568" y="13003"/>
                  <a:pt x="22547" y="13022"/>
                </a:cubicBezTo>
                <a:cubicBezTo>
                  <a:pt x="22576" y="13051"/>
                  <a:pt x="22571" y="13087"/>
                  <a:pt x="22622" y="13122"/>
                </a:cubicBezTo>
                <a:cubicBezTo>
                  <a:pt x="22693" y="13171"/>
                  <a:pt x="22744" y="13187"/>
                  <a:pt x="22820" y="13221"/>
                </a:cubicBezTo>
                <a:cubicBezTo>
                  <a:pt x="22907" y="13260"/>
                  <a:pt x="22862" y="13227"/>
                  <a:pt x="22920" y="13246"/>
                </a:cubicBezTo>
              </a:path>
              <a:path w="1391" h="8236">
                <a:moveTo>
                  <a:pt x="23143" y="9252"/>
                </a:moveTo>
                <a:cubicBezTo>
                  <a:pt x="23213" y="9199"/>
                  <a:pt x="23185" y="9261"/>
                  <a:pt x="23242" y="9302"/>
                </a:cubicBezTo>
                <a:cubicBezTo>
                  <a:pt x="23299" y="9343"/>
                  <a:pt x="23360" y="9383"/>
                  <a:pt x="23416" y="9426"/>
                </a:cubicBezTo>
                <a:cubicBezTo>
                  <a:pt x="23424" y="9434"/>
                  <a:pt x="23432" y="9443"/>
                  <a:pt x="23440" y="9451"/>
                </a:cubicBezTo>
              </a:path>
              <a:path w="1391" h="8236">
                <a:moveTo>
                  <a:pt x="23416" y="9004"/>
                </a:moveTo>
                <a:cubicBezTo>
                  <a:pt x="23416" y="9012"/>
                  <a:pt x="23416" y="9021"/>
                  <a:pt x="23416" y="9029"/>
                </a:cubicBezTo>
              </a:path>
              <a:path w="1391" h="8236">
                <a:moveTo>
                  <a:pt x="23093" y="9649"/>
                </a:moveTo>
                <a:cubicBezTo>
                  <a:pt x="23093" y="9684"/>
                  <a:pt x="23098" y="9683"/>
                  <a:pt x="23118" y="9624"/>
                </a:cubicBezTo>
              </a:path>
              <a:path w="1391" h="8236">
                <a:moveTo>
                  <a:pt x="23937" y="9599"/>
                </a:moveTo>
                <a:cubicBezTo>
                  <a:pt x="23831" y="9599"/>
                  <a:pt x="23861" y="9574"/>
                  <a:pt x="23812" y="9525"/>
                </a:cubicBezTo>
                <a:cubicBezTo>
                  <a:pt x="23730" y="9442"/>
                  <a:pt x="23702" y="9544"/>
                  <a:pt x="23664" y="9575"/>
                </a:cubicBezTo>
                <a:cubicBezTo>
                  <a:pt x="23618" y="9612"/>
                  <a:pt x="23596" y="9632"/>
                  <a:pt x="23564" y="9674"/>
                </a:cubicBezTo>
                <a:cubicBezTo>
                  <a:pt x="23556" y="9682"/>
                  <a:pt x="23548" y="9691"/>
                  <a:pt x="23540" y="9699"/>
                </a:cubicBezTo>
                <a:cubicBezTo>
                  <a:pt x="23595" y="9699"/>
                  <a:pt x="23619" y="9727"/>
                  <a:pt x="23664" y="9748"/>
                </a:cubicBezTo>
                <a:cubicBezTo>
                  <a:pt x="23737" y="9782"/>
                  <a:pt x="23738" y="9796"/>
                  <a:pt x="23738" y="9872"/>
                </a:cubicBezTo>
                <a:cubicBezTo>
                  <a:pt x="23738" y="9940"/>
                  <a:pt x="23708" y="9976"/>
                  <a:pt x="23664" y="10021"/>
                </a:cubicBezTo>
                <a:cubicBezTo>
                  <a:pt x="23611" y="10074"/>
                  <a:pt x="23577" y="10058"/>
                  <a:pt x="23515" y="10096"/>
                </a:cubicBezTo>
                <a:cubicBezTo>
                  <a:pt x="23472" y="10122"/>
                  <a:pt x="23443" y="10120"/>
                  <a:pt x="23391" y="10120"/>
                </a:cubicBezTo>
                <a:cubicBezTo>
                  <a:pt x="23363" y="10120"/>
                  <a:pt x="23352" y="10118"/>
                  <a:pt x="23341" y="10096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84240" y="3286080"/>
            <a:ext cx="608040" cy="1643040"/>
          </a:xfrm>
          <a:custGeom>
            <a:avLst/>
            <a:gdLst/>
            <a:ahLst/>
            <a:rect l="l" t="t" r="r" b="b"/>
            <a:pathLst>
              <a:path w="1688" h="4565">
                <a:moveTo>
                  <a:pt x="5755" y="10492"/>
                </a:moveTo>
                <a:cubicBezTo>
                  <a:pt x="5739" y="10541"/>
                  <a:pt x="5732" y="10558"/>
                  <a:pt x="5730" y="10616"/>
                </a:cubicBezTo>
                <a:cubicBezTo>
                  <a:pt x="5712" y="11091"/>
                  <a:pt x="5639" y="11735"/>
                  <a:pt x="5755" y="12179"/>
                </a:cubicBezTo>
                <a:cubicBezTo>
                  <a:pt x="5770" y="12238"/>
                  <a:pt x="5777" y="12265"/>
                  <a:pt x="5779" y="12328"/>
                </a:cubicBezTo>
                <a:cubicBezTo>
                  <a:pt x="5784" y="12462"/>
                  <a:pt x="5794" y="12598"/>
                  <a:pt x="5804" y="12725"/>
                </a:cubicBezTo>
                <a:cubicBezTo>
                  <a:pt x="5810" y="12804"/>
                  <a:pt x="5786" y="12877"/>
                  <a:pt x="5779" y="12948"/>
                </a:cubicBezTo>
                <a:cubicBezTo>
                  <a:pt x="5769" y="13056"/>
                  <a:pt x="5763" y="13096"/>
                  <a:pt x="5730" y="13171"/>
                </a:cubicBezTo>
                <a:cubicBezTo>
                  <a:pt x="5693" y="13256"/>
                  <a:pt x="5702" y="13281"/>
                  <a:pt x="5631" y="13345"/>
                </a:cubicBezTo>
                <a:cubicBezTo>
                  <a:pt x="5572" y="13398"/>
                  <a:pt x="5529" y="13353"/>
                  <a:pt x="5457" y="13345"/>
                </a:cubicBezTo>
                <a:cubicBezTo>
                  <a:pt x="5433" y="13342"/>
                  <a:pt x="5407" y="13347"/>
                  <a:pt x="5383" y="13345"/>
                </a:cubicBezTo>
                <a:cubicBezTo>
                  <a:pt x="5414" y="13265"/>
                  <a:pt x="5406" y="13234"/>
                  <a:pt x="5482" y="13171"/>
                </a:cubicBezTo>
                <a:cubicBezTo>
                  <a:pt x="5549" y="13116"/>
                  <a:pt x="5546" y="13111"/>
                  <a:pt x="5581" y="13047"/>
                </a:cubicBezTo>
                <a:cubicBezTo>
                  <a:pt x="5563" y="13071"/>
                  <a:pt x="5529" y="13148"/>
                  <a:pt x="5507" y="13171"/>
                </a:cubicBezTo>
                <a:cubicBezTo>
                  <a:pt x="5479" y="13201"/>
                  <a:pt x="5360" y="13306"/>
                  <a:pt x="5333" y="13320"/>
                </a:cubicBezTo>
                <a:cubicBezTo>
                  <a:pt x="5316" y="13320"/>
                  <a:pt x="5300" y="13320"/>
                  <a:pt x="5283" y="13320"/>
                </a:cubicBezTo>
                <a:cubicBezTo>
                  <a:pt x="5267" y="13380"/>
                  <a:pt x="5243" y="13402"/>
                  <a:pt x="5259" y="13444"/>
                </a:cubicBezTo>
                <a:cubicBezTo>
                  <a:pt x="5272" y="13480"/>
                  <a:pt x="5322" y="13546"/>
                  <a:pt x="5358" y="13568"/>
                </a:cubicBezTo>
                <a:cubicBezTo>
                  <a:pt x="5382" y="13583"/>
                  <a:pt x="5484" y="13672"/>
                  <a:pt x="5507" y="13667"/>
                </a:cubicBezTo>
                <a:cubicBezTo>
                  <a:pt x="5507" y="13720"/>
                  <a:pt x="5520" y="13703"/>
                  <a:pt x="5556" y="13593"/>
                </a:cubicBezTo>
              </a:path>
              <a:path w="1688" h="4565">
                <a:moveTo>
                  <a:pt x="6152" y="9401"/>
                </a:moveTo>
                <a:cubicBezTo>
                  <a:pt x="6190" y="9431"/>
                  <a:pt x="6234" y="9442"/>
                  <a:pt x="6276" y="9475"/>
                </a:cubicBezTo>
                <a:cubicBezTo>
                  <a:pt x="6305" y="9446"/>
                  <a:pt x="6316" y="9431"/>
                  <a:pt x="6325" y="9401"/>
                </a:cubicBezTo>
              </a:path>
              <a:path w="1688" h="4565">
                <a:moveTo>
                  <a:pt x="6276" y="9128"/>
                </a:moveTo>
                <a:cubicBezTo>
                  <a:pt x="6234" y="9128"/>
                  <a:pt x="6218" y="9120"/>
                  <a:pt x="6226" y="9153"/>
                </a:cubicBezTo>
              </a:path>
              <a:path w="1688" h="4565">
                <a:moveTo>
                  <a:pt x="6226" y="9649"/>
                </a:moveTo>
                <a:cubicBezTo>
                  <a:pt x="6164" y="9659"/>
                  <a:pt x="6176" y="9676"/>
                  <a:pt x="6176" y="9649"/>
                </a:cubicBezTo>
              </a:path>
              <a:path w="1688" h="4565">
                <a:moveTo>
                  <a:pt x="6921" y="9451"/>
                </a:moveTo>
                <a:cubicBezTo>
                  <a:pt x="6859" y="9425"/>
                  <a:pt x="6808" y="9428"/>
                  <a:pt x="6747" y="9401"/>
                </a:cubicBezTo>
                <a:cubicBezTo>
                  <a:pt x="6669" y="9366"/>
                  <a:pt x="6623" y="9381"/>
                  <a:pt x="6573" y="9451"/>
                </a:cubicBezTo>
                <a:cubicBezTo>
                  <a:pt x="6553" y="9479"/>
                  <a:pt x="6543" y="9542"/>
                  <a:pt x="6524" y="9575"/>
                </a:cubicBezTo>
                <a:cubicBezTo>
                  <a:pt x="6502" y="9613"/>
                  <a:pt x="6483" y="9637"/>
                  <a:pt x="6474" y="9674"/>
                </a:cubicBezTo>
                <a:cubicBezTo>
                  <a:pt x="6541" y="9674"/>
                  <a:pt x="6621" y="9659"/>
                  <a:pt x="6672" y="9699"/>
                </a:cubicBezTo>
                <a:cubicBezTo>
                  <a:pt x="6731" y="9746"/>
                  <a:pt x="6722" y="9805"/>
                  <a:pt x="6722" y="9872"/>
                </a:cubicBezTo>
                <a:cubicBezTo>
                  <a:pt x="6722" y="9924"/>
                  <a:pt x="6734" y="9954"/>
                  <a:pt x="6747" y="9996"/>
                </a:cubicBezTo>
                <a:cubicBezTo>
                  <a:pt x="6767" y="10062"/>
                  <a:pt x="6684" y="10088"/>
                  <a:pt x="6648" y="10120"/>
                </a:cubicBezTo>
                <a:cubicBezTo>
                  <a:pt x="6596" y="10167"/>
                  <a:pt x="6573" y="10191"/>
                  <a:pt x="6499" y="10195"/>
                </a:cubicBezTo>
                <a:cubicBezTo>
                  <a:pt x="6439" y="10198"/>
                  <a:pt x="6421" y="10185"/>
                  <a:pt x="6375" y="10220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2320" y="4660920"/>
            <a:ext cx="606600" cy="241200"/>
          </a:xfrm>
          <a:custGeom>
            <a:avLst/>
            <a:gdLst/>
            <a:ahLst/>
            <a:rect l="l" t="t" r="r" b="b"/>
            <a:pathLst>
              <a:path w="1687" h="671">
                <a:moveTo>
                  <a:pt x="2183" y="12973"/>
                </a:moveTo>
                <a:cubicBezTo>
                  <a:pt x="2115" y="12944"/>
                  <a:pt x="2097" y="12939"/>
                  <a:pt x="2034" y="12973"/>
                </a:cubicBezTo>
                <a:cubicBezTo>
                  <a:pt x="1967" y="13009"/>
                  <a:pt x="1919" y="13050"/>
                  <a:pt x="1885" y="13122"/>
                </a:cubicBezTo>
                <a:cubicBezTo>
                  <a:pt x="1862" y="13171"/>
                  <a:pt x="1828" y="13237"/>
                  <a:pt x="1811" y="13295"/>
                </a:cubicBezTo>
                <a:cubicBezTo>
                  <a:pt x="1785" y="13387"/>
                  <a:pt x="1831" y="13387"/>
                  <a:pt x="1860" y="13419"/>
                </a:cubicBezTo>
                <a:cubicBezTo>
                  <a:pt x="1913" y="13478"/>
                  <a:pt x="1895" y="13469"/>
                  <a:pt x="1984" y="13469"/>
                </a:cubicBezTo>
                <a:cubicBezTo>
                  <a:pt x="2088" y="13469"/>
                  <a:pt x="2071" y="13373"/>
                  <a:pt x="2133" y="13320"/>
                </a:cubicBezTo>
                <a:cubicBezTo>
                  <a:pt x="2188" y="13273"/>
                  <a:pt x="2209" y="13229"/>
                  <a:pt x="2232" y="13146"/>
                </a:cubicBezTo>
                <a:cubicBezTo>
                  <a:pt x="2248" y="13088"/>
                  <a:pt x="2236" y="13047"/>
                  <a:pt x="2183" y="13022"/>
                </a:cubicBezTo>
                <a:cubicBezTo>
                  <a:pt x="2145" y="13005"/>
                  <a:pt x="2152" y="13014"/>
                  <a:pt x="2183" y="12973"/>
                </a:cubicBezTo>
              </a:path>
              <a:path w="1687" h="671">
                <a:moveTo>
                  <a:pt x="2332" y="13419"/>
                </a:moveTo>
                <a:cubicBezTo>
                  <a:pt x="2330" y="13421"/>
                  <a:pt x="2258" y="13476"/>
                  <a:pt x="2307" y="13395"/>
                </a:cubicBezTo>
                <a:cubicBezTo>
                  <a:pt x="2315" y="13387"/>
                  <a:pt x="2324" y="13378"/>
                  <a:pt x="2332" y="13370"/>
                </a:cubicBezTo>
              </a:path>
              <a:path w="1687" h="671">
                <a:moveTo>
                  <a:pt x="2729" y="13072"/>
                </a:moveTo>
                <a:cubicBezTo>
                  <a:pt x="2705" y="13112"/>
                  <a:pt x="2691" y="13172"/>
                  <a:pt x="2679" y="13221"/>
                </a:cubicBezTo>
                <a:cubicBezTo>
                  <a:pt x="2670" y="13258"/>
                  <a:pt x="2651" y="13282"/>
                  <a:pt x="2629" y="13320"/>
                </a:cubicBezTo>
                <a:cubicBezTo>
                  <a:pt x="2679" y="13307"/>
                  <a:pt x="2693" y="13295"/>
                  <a:pt x="2753" y="13295"/>
                </a:cubicBezTo>
                <a:cubicBezTo>
                  <a:pt x="2830" y="13295"/>
                  <a:pt x="2855" y="13323"/>
                  <a:pt x="2927" y="13345"/>
                </a:cubicBezTo>
                <a:cubicBezTo>
                  <a:pt x="2970" y="13358"/>
                  <a:pt x="3014" y="13304"/>
                  <a:pt x="3051" y="13295"/>
                </a:cubicBezTo>
              </a:path>
              <a:path w="1687" h="671">
                <a:moveTo>
                  <a:pt x="2902" y="13072"/>
                </a:moveTo>
                <a:cubicBezTo>
                  <a:pt x="2881" y="13121"/>
                  <a:pt x="2872" y="13174"/>
                  <a:pt x="2853" y="13221"/>
                </a:cubicBezTo>
                <a:cubicBezTo>
                  <a:pt x="2833" y="13270"/>
                  <a:pt x="2826" y="13353"/>
                  <a:pt x="2803" y="13395"/>
                </a:cubicBezTo>
                <a:cubicBezTo>
                  <a:pt x="2780" y="13436"/>
                  <a:pt x="2798" y="13481"/>
                  <a:pt x="2778" y="13519"/>
                </a:cubicBezTo>
                <a:cubicBezTo>
                  <a:pt x="2768" y="13538"/>
                  <a:pt x="2714" y="13623"/>
                  <a:pt x="2778" y="13519"/>
                </a:cubicBezTo>
              </a:path>
              <a:path w="1687" h="671">
                <a:moveTo>
                  <a:pt x="3324" y="13047"/>
                </a:moveTo>
                <a:cubicBezTo>
                  <a:pt x="3246" y="13109"/>
                  <a:pt x="3293" y="13138"/>
                  <a:pt x="3249" y="13196"/>
                </a:cubicBezTo>
                <a:cubicBezTo>
                  <a:pt x="3214" y="13243"/>
                  <a:pt x="3175" y="13277"/>
                  <a:pt x="3150" y="13345"/>
                </a:cubicBezTo>
                <a:cubicBezTo>
                  <a:pt x="3120" y="13428"/>
                  <a:pt x="3174" y="13483"/>
                  <a:pt x="3200" y="13543"/>
                </a:cubicBezTo>
                <a:cubicBezTo>
                  <a:pt x="3210" y="13566"/>
                  <a:pt x="3259" y="13629"/>
                  <a:pt x="3299" y="13618"/>
                </a:cubicBezTo>
                <a:cubicBezTo>
                  <a:pt x="3367" y="13599"/>
                  <a:pt x="3396" y="13562"/>
                  <a:pt x="3448" y="13519"/>
                </a:cubicBezTo>
                <a:cubicBezTo>
                  <a:pt x="3486" y="13488"/>
                  <a:pt x="3487" y="13410"/>
                  <a:pt x="3497" y="13370"/>
                </a:cubicBezTo>
                <a:cubicBezTo>
                  <a:pt x="3519" y="13285"/>
                  <a:pt x="3504" y="13192"/>
                  <a:pt x="3448" y="13146"/>
                </a:cubicBezTo>
                <a:cubicBezTo>
                  <a:pt x="3394" y="13103"/>
                  <a:pt x="3443" y="13054"/>
                  <a:pt x="3373" y="13072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9760" y="5527800"/>
            <a:ext cx="125280" cy="258480"/>
          </a:xfrm>
          <a:custGeom>
            <a:avLst/>
            <a:gdLst/>
            <a:ahLst/>
            <a:rect l="l" t="t" r="r" b="b"/>
            <a:pathLst>
              <a:path w="348" h="720">
                <a:moveTo>
                  <a:pt x="1439" y="15354"/>
                </a:moveTo>
                <a:cubicBezTo>
                  <a:pt x="1431" y="15371"/>
                  <a:pt x="1422" y="15387"/>
                  <a:pt x="1414" y="15404"/>
                </a:cubicBezTo>
                <a:cubicBezTo>
                  <a:pt x="1471" y="15418"/>
                  <a:pt x="1517" y="15461"/>
                  <a:pt x="1563" y="15503"/>
                </a:cubicBezTo>
                <a:cubicBezTo>
                  <a:pt x="1613" y="15549"/>
                  <a:pt x="1631" y="15585"/>
                  <a:pt x="1687" y="15627"/>
                </a:cubicBezTo>
                <a:cubicBezTo>
                  <a:pt x="1717" y="15657"/>
                  <a:pt x="1731" y="15668"/>
                  <a:pt x="1761" y="15677"/>
                </a:cubicBezTo>
                <a:cubicBezTo>
                  <a:pt x="1749" y="15723"/>
                  <a:pt x="1713" y="15758"/>
                  <a:pt x="1687" y="15801"/>
                </a:cubicBezTo>
                <a:cubicBezTo>
                  <a:pt x="1649" y="15864"/>
                  <a:pt x="1664" y="15915"/>
                  <a:pt x="1612" y="15974"/>
                </a:cubicBezTo>
                <a:cubicBezTo>
                  <a:pt x="1576" y="16015"/>
                  <a:pt x="1589" y="16098"/>
                  <a:pt x="1538" y="16049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640" y="3044880"/>
            <a:ext cx="117360" cy="142920"/>
          </a:xfrm>
          <a:custGeom>
            <a:avLst/>
            <a:gdLst/>
            <a:ahLst/>
            <a:rect l="l" t="t" r="r" b="b"/>
            <a:pathLst>
              <a:path w="323" h="398">
                <a:moveTo>
                  <a:pt x="174" y="8458"/>
                </a:moveTo>
                <a:cubicBezTo>
                  <a:pt x="159" y="8535"/>
                  <a:pt x="140" y="8555"/>
                  <a:pt x="174" y="8632"/>
                </a:cubicBezTo>
                <a:cubicBezTo>
                  <a:pt x="205" y="8702"/>
                  <a:pt x="218" y="8728"/>
                  <a:pt x="223" y="8806"/>
                </a:cubicBezTo>
                <a:cubicBezTo>
                  <a:pt x="227" y="8859"/>
                  <a:pt x="223" y="8860"/>
                  <a:pt x="223" y="8806"/>
                </a:cubicBezTo>
              </a:path>
              <a:path w="323" h="398">
                <a:moveTo>
                  <a:pt x="372" y="8632"/>
                </a:moveTo>
                <a:cubicBezTo>
                  <a:pt x="303" y="8662"/>
                  <a:pt x="290" y="8695"/>
                  <a:pt x="223" y="8706"/>
                </a:cubicBezTo>
                <a:cubicBezTo>
                  <a:pt x="167" y="8715"/>
                  <a:pt x="117" y="8742"/>
                  <a:pt x="74" y="8781"/>
                </a:cubicBezTo>
                <a:cubicBezTo>
                  <a:pt x="52" y="8803"/>
                  <a:pt x="41" y="8812"/>
                  <a:pt x="74" y="8806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1200" y="3125880"/>
            <a:ext cx="374760" cy="411120"/>
          </a:xfrm>
          <a:custGeom>
            <a:avLst/>
            <a:gdLst/>
            <a:ahLst/>
            <a:rect l="l" t="t" r="r" b="b"/>
            <a:pathLst>
              <a:path w="1043" h="1142">
                <a:moveTo>
                  <a:pt x="967" y="8682"/>
                </a:moveTo>
                <a:cubicBezTo>
                  <a:pt x="917" y="8748"/>
                  <a:pt x="844" y="8802"/>
                  <a:pt x="819" y="8880"/>
                </a:cubicBezTo>
                <a:cubicBezTo>
                  <a:pt x="793" y="8958"/>
                  <a:pt x="761" y="8988"/>
                  <a:pt x="695" y="9054"/>
                </a:cubicBezTo>
                <a:cubicBezTo>
                  <a:pt x="667" y="9082"/>
                  <a:pt x="658" y="9095"/>
                  <a:pt x="670" y="9128"/>
                </a:cubicBezTo>
              </a:path>
              <a:path w="1043" h="1142">
                <a:moveTo>
                  <a:pt x="1091" y="8855"/>
                </a:moveTo>
                <a:cubicBezTo>
                  <a:pt x="1149" y="8855"/>
                  <a:pt x="1207" y="8855"/>
                  <a:pt x="1265" y="8855"/>
                </a:cubicBezTo>
                <a:cubicBezTo>
                  <a:pt x="1265" y="8926"/>
                  <a:pt x="1270" y="8972"/>
                  <a:pt x="1240" y="9029"/>
                </a:cubicBezTo>
                <a:cubicBezTo>
                  <a:pt x="1205" y="9095"/>
                  <a:pt x="1203" y="9167"/>
                  <a:pt x="1166" y="9227"/>
                </a:cubicBezTo>
                <a:cubicBezTo>
                  <a:pt x="1134" y="9279"/>
                  <a:pt x="1044" y="9320"/>
                  <a:pt x="992" y="9351"/>
                </a:cubicBezTo>
                <a:cubicBezTo>
                  <a:pt x="939" y="9383"/>
                  <a:pt x="903" y="9376"/>
                  <a:pt x="843" y="9376"/>
                </a:cubicBezTo>
                <a:cubicBezTo>
                  <a:pt x="763" y="9376"/>
                  <a:pt x="802" y="9289"/>
                  <a:pt x="819" y="9252"/>
                </a:cubicBezTo>
                <a:cubicBezTo>
                  <a:pt x="842" y="9203"/>
                  <a:pt x="891" y="9182"/>
                  <a:pt x="943" y="9178"/>
                </a:cubicBezTo>
                <a:cubicBezTo>
                  <a:pt x="986" y="9175"/>
                  <a:pt x="1072" y="9174"/>
                  <a:pt x="1091" y="9227"/>
                </a:cubicBezTo>
                <a:cubicBezTo>
                  <a:pt x="1115" y="9295"/>
                  <a:pt x="1061" y="9320"/>
                  <a:pt x="1042" y="9376"/>
                </a:cubicBezTo>
                <a:cubicBezTo>
                  <a:pt x="1025" y="9428"/>
                  <a:pt x="1017" y="9468"/>
                  <a:pt x="1017" y="9525"/>
                </a:cubicBezTo>
                <a:cubicBezTo>
                  <a:pt x="1017" y="9578"/>
                  <a:pt x="1016" y="9605"/>
                  <a:pt x="1042" y="9649"/>
                </a:cubicBezTo>
              </a:path>
              <a:path w="1043" h="1142">
                <a:moveTo>
                  <a:pt x="1712" y="9302"/>
                </a:moveTo>
                <a:cubicBezTo>
                  <a:pt x="1670" y="9260"/>
                  <a:pt x="1637" y="9224"/>
                  <a:pt x="1588" y="9203"/>
                </a:cubicBezTo>
                <a:cubicBezTo>
                  <a:pt x="1496" y="9164"/>
                  <a:pt x="1524" y="9126"/>
                  <a:pt x="1439" y="9203"/>
                </a:cubicBezTo>
                <a:cubicBezTo>
                  <a:pt x="1384" y="9253"/>
                  <a:pt x="1377" y="9307"/>
                  <a:pt x="1315" y="9351"/>
                </a:cubicBezTo>
                <a:cubicBezTo>
                  <a:pt x="1355" y="9372"/>
                  <a:pt x="1377" y="9351"/>
                  <a:pt x="1439" y="9351"/>
                </a:cubicBezTo>
                <a:cubicBezTo>
                  <a:pt x="1514" y="9351"/>
                  <a:pt x="1544" y="9367"/>
                  <a:pt x="1563" y="9451"/>
                </a:cubicBezTo>
                <a:cubicBezTo>
                  <a:pt x="1571" y="9486"/>
                  <a:pt x="1607" y="9562"/>
                  <a:pt x="1588" y="9599"/>
                </a:cubicBezTo>
                <a:cubicBezTo>
                  <a:pt x="1566" y="9643"/>
                  <a:pt x="1579" y="9679"/>
                  <a:pt x="1563" y="9723"/>
                </a:cubicBezTo>
                <a:cubicBezTo>
                  <a:pt x="1541" y="9784"/>
                  <a:pt x="1477" y="9819"/>
                  <a:pt x="1414" y="9823"/>
                </a:cubicBezTo>
                <a:cubicBezTo>
                  <a:pt x="1340" y="9828"/>
                  <a:pt x="1306" y="9783"/>
                  <a:pt x="1265" y="9748"/>
                </a:cubicBezTo>
                <a:cubicBezTo>
                  <a:pt x="1237" y="9724"/>
                  <a:pt x="1181" y="9647"/>
                  <a:pt x="1215" y="9599"/>
                </a:cubicBezTo>
                <a:cubicBezTo>
                  <a:pt x="1223" y="9599"/>
                  <a:pt x="1232" y="9599"/>
                  <a:pt x="1240" y="9599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9200" y="4537080"/>
            <a:ext cx="403200" cy="615960"/>
          </a:xfrm>
          <a:custGeom>
            <a:avLst/>
            <a:gdLst/>
            <a:ahLst/>
            <a:rect l="l" t="t" r="r" b="b"/>
            <a:pathLst>
              <a:path w="1117" h="1712">
                <a:moveTo>
                  <a:pt x="7045" y="12601"/>
                </a:moveTo>
                <a:cubicBezTo>
                  <a:pt x="7075" y="12611"/>
                  <a:pt x="7082" y="12656"/>
                  <a:pt x="7069" y="12700"/>
                </a:cubicBezTo>
                <a:cubicBezTo>
                  <a:pt x="7051" y="12763"/>
                  <a:pt x="7045" y="12781"/>
                  <a:pt x="7045" y="12849"/>
                </a:cubicBezTo>
                <a:cubicBezTo>
                  <a:pt x="7045" y="12910"/>
                  <a:pt x="7069" y="13056"/>
                  <a:pt x="7020" y="13072"/>
                </a:cubicBezTo>
              </a:path>
              <a:path w="1117" h="1712">
                <a:moveTo>
                  <a:pt x="7367" y="12799"/>
                </a:moveTo>
                <a:cubicBezTo>
                  <a:pt x="7228" y="12799"/>
                  <a:pt x="7014" y="12761"/>
                  <a:pt x="6896" y="12824"/>
                </a:cubicBezTo>
                <a:cubicBezTo>
                  <a:pt x="6837" y="12856"/>
                  <a:pt x="6787" y="12849"/>
                  <a:pt x="6722" y="12849"/>
                </a:cubicBezTo>
                <a:cubicBezTo>
                  <a:pt x="6772" y="12849"/>
                  <a:pt x="6788" y="12849"/>
                  <a:pt x="6821" y="12849"/>
                </a:cubicBezTo>
              </a:path>
              <a:path w="1117" h="1712">
                <a:moveTo>
                  <a:pt x="7417" y="13122"/>
                </a:moveTo>
                <a:cubicBezTo>
                  <a:pt x="7372" y="13172"/>
                  <a:pt x="7325" y="13263"/>
                  <a:pt x="7293" y="13295"/>
                </a:cubicBezTo>
                <a:cubicBezTo>
                  <a:pt x="7230" y="13357"/>
                  <a:pt x="7180" y="13403"/>
                  <a:pt x="7119" y="13469"/>
                </a:cubicBezTo>
                <a:cubicBezTo>
                  <a:pt x="7111" y="13477"/>
                  <a:pt x="7102" y="13486"/>
                  <a:pt x="7094" y="13494"/>
                </a:cubicBezTo>
              </a:path>
              <a:path w="1117" h="1712">
                <a:moveTo>
                  <a:pt x="7565" y="13469"/>
                </a:moveTo>
                <a:cubicBezTo>
                  <a:pt x="7588" y="13446"/>
                  <a:pt x="7592" y="13438"/>
                  <a:pt x="7615" y="13444"/>
                </a:cubicBezTo>
                <a:cubicBezTo>
                  <a:pt x="7652" y="13494"/>
                  <a:pt x="7649" y="13534"/>
                  <a:pt x="7615" y="13593"/>
                </a:cubicBezTo>
                <a:cubicBezTo>
                  <a:pt x="7568" y="13675"/>
                  <a:pt x="7529" y="13685"/>
                  <a:pt x="7466" y="13742"/>
                </a:cubicBezTo>
                <a:cubicBezTo>
                  <a:pt x="7407" y="13796"/>
                  <a:pt x="7383" y="13772"/>
                  <a:pt x="7317" y="13791"/>
                </a:cubicBezTo>
                <a:cubicBezTo>
                  <a:pt x="7237" y="13815"/>
                  <a:pt x="7230" y="13828"/>
                  <a:pt x="7169" y="13767"/>
                </a:cubicBezTo>
                <a:cubicBezTo>
                  <a:pt x="7178" y="13749"/>
                  <a:pt x="7236" y="13676"/>
                  <a:pt x="7268" y="13667"/>
                </a:cubicBezTo>
                <a:cubicBezTo>
                  <a:pt x="7319" y="13652"/>
                  <a:pt x="7351" y="13720"/>
                  <a:pt x="7367" y="13767"/>
                </a:cubicBezTo>
                <a:cubicBezTo>
                  <a:pt x="7387" y="13825"/>
                  <a:pt x="7418" y="13855"/>
                  <a:pt x="7392" y="13915"/>
                </a:cubicBezTo>
                <a:cubicBezTo>
                  <a:pt x="7385" y="13932"/>
                  <a:pt x="7315" y="14069"/>
                  <a:pt x="7367" y="13940"/>
                </a:cubicBezTo>
              </a:path>
              <a:path w="1117" h="1712">
                <a:moveTo>
                  <a:pt x="7838" y="13940"/>
                </a:moveTo>
                <a:cubicBezTo>
                  <a:pt x="7821" y="13930"/>
                  <a:pt x="7696" y="13880"/>
                  <a:pt x="7689" y="13866"/>
                </a:cubicBezTo>
                <a:cubicBezTo>
                  <a:pt x="7689" y="13849"/>
                  <a:pt x="7689" y="13833"/>
                  <a:pt x="7689" y="13816"/>
                </a:cubicBezTo>
                <a:cubicBezTo>
                  <a:pt x="7620" y="13816"/>
                  <a:pt x="7613" y="13817"/>
                  <a:pt x="7565" y="13866"/>
                </a:cubicBezTo>
                <a:cubicBezTo>
                  <a:pt x="7535" y="13897"/>
                  <a:pt x="7499" y="13914"/>
                  <a:pt x="7466" y="13940"/>
                </a:cubicBezTo>
                <a:cubicBezTo>
                  <a:pt x="7555" y="13940"/>
                  <a:pt x="7595" y="13930"/>
                  <a:pt x="7665" y="13990"/>
                </a:cubicBezTo>
                <a:cubicBezTo>
                  <a:pt x="7700" y="14020"/>
                  <a:pt x="7701" y="14096"/>
                  <a:pt x="7689" y="14139"/>
                </a:cubicBezTo>
                <a:cubicBezTo>
                  <a:pt x="7667" y="14219"/>
                  <a:pt x="7606" y="14210"/>
                  <a:pt x="7565" y="14263"/>
                </a:cubicBezTo>
                <a:cubicBezTo>
                  <a:pt x="7529" y="14309"/>
                  <a:pt x="7511" y="14312"/>
                  <a:pt x="7441" y="14312"/>
                </a:cubicBezTo>
                <a:cubicBezTo>
                  <a:pt x="7382" y="14312"/>
                  <a:pt x="7343" y="14254"/>
                  <a:pt x="7293" y="14238"/>
                </a:cubicBezTo>
                <a:cubicBezTo>
                  <a:pt x="7250" y="14224"/>
                  <a:pt x="7170" y="14212"/>
                  <a:pt x="7218" y="14188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43120" y="5438880"/>
            <a:ext cx="115920" cy="169920"/>
          </a:xfrm>
          <a:custGeom>
            <a:avLst/>
            <a:gdLst/>
            <a:ahLst/>
            <a:rect l="l" t="t" r="r" b="b"/>
            <a:pathLst>
              <a:path w="324" h="472">
                <a:moveTo>
                  <a:pt x="7417" y="15106"/>
                </a:moveTo>
                <a:cubicBezTo>
                  <a:pt x="7400" y="15106"/>
                  <a:pt x="7384" y="15106"/>
                  <a:pt x="7367" y="15106"/>
                </a:cubicBezTo>
                <a:cubicBezTo>
                  <a:pt x="7379" y="15191"/>
                  <a:pt x="7415" y="15183"/>
                  <a:pt x="7466" y="15255"/>
                </a:cubicBezTo>
                <a:cubicBezTo>
                  <a:pt x="7505" y="15310"/>
                  <a:pt x="7536" y="15323"/>
                  <a:pt x="7590" y="15354"/>
                </a:cubicBezTo>
                <a:cubicBezTo>
                  <a:pt x="7631" y="15374"/>
                  <a:pt x="7637" y="15383"/>
                  <a:pt x="7665" y="15379"/>
                </a:cubicBezTo>
                <a:cubicBezTo>
                  <a:pt x="7613" y="15457"/>
                  <a:pt x="7596" y="15404"/>
                  <a:pt x="7516" y="15453"/>
                </a:cubicBezTo>
                <a:cubicBezTo>
                  <a:pt x="7468" y="15482"/>
                  <a:pt x="7414" y="15521"/>
                  <a:pt x="7367" y="15553"/>
                </a:cubicBezTo>
                <a:cubicBezTo>
                  <a:pt x="7293" y="15603"/>
                  <a:pt x="7404" y="15461"/>
                  <a:pt x="7417" y="15429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27080" y="3125880"/>
            <a:ext cx="214200" cy="258840"/>
          </a:xfrm>
          <a:custGeom>
            <a:avLst/>
            <a:gdLst/>
            <a:ahLst/>
            <a:rect l="l" t="t" r="r" b="b"/>
            <a:pathLst>
              <a:path w="596" h="720">
                <a:moveTo>
                  <a:pt x="3051" y="8756"/>
                </a:moveTo>
                <a:cubicBezTo>
                  <a:pt x="3061" y="8697"/>
                  <a:pt x="3075" y="8687"/>
                  <a:pt x="3150" y="8682"/>
                </a:cubicBezTo>
                <a:cubicBezTo>
                  <a:pt x="3231" y="8677"/>
                  <a:pt x="3242" y="8719"/>
                  <a:pt x="3299" y="8756"/>
                </a:cubicBezTo>
                <a:cubicBezTo>
                  <a:pt x="3316" y="8764"/>
                  <a:pt x="3332" y="8773"/>
                  <a:pt x="3349" y="8781"/>
                </a:cubicBezTo>
                <a:cubicBezTo>
                  <a:pt x="3329" y="8862"/>
                  <a:pt x="3318" y="8866"/>
                  <a:pt x="3249" y="8930"/>
                </a:cubicBezTo>
                <a:cubicBezTo>
                  <a:pt x="3165" y="9008"/>
                  <a:pt x="3089" y="9084"/>
                  <a:pt x="3001" y="9153"/>
                </a:cubicBezTo>
                <a:cubicBezTo>
                  <a:pt x="2953" y="9190"/>
                  <a:pt x="2906" y="9222"/>
                  <a:pt x="2853" y="9252"/>
                </a:cubicBezTo>
                <a:cubicBezTo>
                  <a:pt x="2908" y="9241"/>
                  <a:pt x="2942" y="9227"/>
                  <a:pt x="3001" y="9227"/>
                </a:cubicBezTo>
                <a:cubicBezTo>
                  <a:pt x="3081" y="9227"/>
                  <a:pt x="3103" y="9271"/>
                  <a:pt x="3150" y="9327"/>
                </a:cubicBezTo>
                <a:cubicBezTo>
                  <a:pt x="3197" y="9383"/>
                  <a:pt x="3234" y="9380"/>
                  <a:pt x="3274" y="9376"/>
                </a:cubicBezTo>
                <a:cubicBezTo>
                  <a:pt x="3372" y="9366"/>
                  <a:pt x="3364" y="9373"/>
                  <a:pt x="3448" y="93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66960" y="1839960"/>
            <a:ext cx="241200" cy="1955880"/>
          </a:xfrm>
          <a:custGeom>
            <a:avLst/>
            <a:gdLst/>
            <a:ahLst/>
            <a:rect l="l" t="t" r="r" b="b"/>
            <a:pathLst>
              <a:path w="671" h="5433">
                <a:moveTo>
                  <a:pt x="5184" y="5110"/>
                </a:moveTo>
                <a:cubicBezTo>
                  <a:pt x="5254" y="5139"/>
                  <a:pt x="5338" y="5149"/>
                  <a:pt x="5407" y="5184"/>
                </a:cubicBezTo>
                <a:cubicBezTo>
                  <a:pt x="5482" y="5222"/>
                  <a:pt x="5519" y="5300"/>
                  <a:pt x="5556" y="5333"/>
                </a:cubicBezTo>
                <a:cubicBezTo>
                  <a:pt x="5623" y="5393"/>
                  <a:pt x="5659" y="5392"/>
                  <a:pt x="5705" y="5482"/>
                </a:cubicBezTo>
                <a:cubicBezTo>
                  <a:pt x="5740" y="5550"/>
                  <a:pt x="5782" y="5642"/>
                  <a:pt x="5804" y="5705"/>
                </a:cubicBezTo>
                <a:cubicBezTo>
                  <a:pt x="5820" y="5751"/>
                  <a:pt x="5847" y="5804"/>
                  <a:pt x="5854" y="5854"/>
                </a:cubicBezTo>
                <a:cubicBezTo>
                  <a:pt x="5935" y="6435"/>
                  <a:pt x="5869" y="7114"/>
                  <a:pt x="5829" y="7689"/>
                </a:cubicBezTo>
                <a:cubicBezTo>
                  <a:pt x="5796" y="8171"/>
                  <a:pt x="5804" y="8677"/>
                  <a:pt x="5804" y="9153"/>
                </a:cubicBezTo>
                <a:cubicBezTo>
                  <a:pt x="5804" y="9524"/>
                  <a:pt x="5808" y="9914"/>
                  <a:pt x="5779" y="10269"/>
                </a:cubicBezTo>
                <a:cubicBezTo>
                  <a:pt x="5774" y="10327"/>
                  <a:pt x="5760" y="10397"/>
                  <a:pt x="5755" y="10443"/>
                </a:cubicBezTo>
                <a:cubicBezTo>
                  <a:pt x="5751" y="10476"/>
                  <a:pt x="5757" y="10509"/>
                  <a:pt x="5755" y="10542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0200" y="1847880"/>
            <a:ext cx="554040" cy="3867120"/>
          </a:xfrm>
          <a:custGeom>
            <a:avLst/>
            <a:gdLst/>
            <a:ahLst/>
            <a:rect l="l" t="t" r="r" b="b"/>
            <a:pathLst>
              <a:path w="1539" h="10741">
                <a:moveTo>
                  <a:pt x="1984" y="5159"/>
                </a:moveTo>
                <a:cubicBezTo>
                  <a:pt x="1912" y="5167"/>
                  <a:pt x="1845" y="5164"/>
                  <a:pt x="1761" y="5184"/>
                </a:cubicBezTo>
                <a:cubicBezTo>
                  <a:pt x="1678" y="5204"/>
                  <a:pt x="1612" y="5212"/>
                  <a:pt x="1538" y="5234"/>
                </a:cubicBezTo>
                <a:cubicBezTo>
                  <a:pt x="1466" y="5256"/>
                  <a:pt x="1324" y="5279"/>
                  <a:pt x="1265" y="5308"/>
                </a:cubicBezTo>
                <a:cubicBezTo>
                  <a:pt x="1199" y="5341"/>
                  <a:pt x="1109" y="5390"/>
                  <a:pt x="1067" y="5432"/>
                </a:cubicBezTo>
                <a:cubicBezTo>
                  <a:pt x="1003" y="5496"/>
                  <a:pt x="989" y="5584"/>
                  <a:pt x="943" y="5655"/>
                </a:cubicBezTo>
                <a:cubicBezTo>
                  <a:pt x="897" y="5725"/>
                  <a:pt x="862" y="5777"/>
                  <a:pt x="819" y="5854"/>
                </a:cubicBezTo>
                <a:cubicBezTo>
                  <a:pt x="799" y="5890"/>
                  <a:pt x="812" y="5943"/>
                  <a:pt x="794" y="5978"/>
                </a:cubicBezTo>
                <a:cubicBezTo>
                  <a:pt x="776" y="6014"/>
                  <a:pt x="713" y="6048"/>
                  <a:pt x="695" y="6102"/>
                </a:cubicBezTo>
                <a:cubicBezTo>
                  <a:pt x="682" y="6142"/>
                  <a:pt x="680" y="6187"/>
                  <a:pt x="670" y="6226"/>
                </a:cubicBezTo>
                <a:cubicBezTo>
                  <a:pt x="658" y="6273"/>
                  <a:pt x="649" y="6329"/>
                  <a:pt x="645" y="6375"/>
                </a:cubicBezTo>
                <a:cubicBezTo>
                  <a:pt x="627" y="6604"/>
                  <a:pt x="607" y="6829"/>
                  <a:pt x="595" y="7045"/>
                </a:cubicBezTo>
                <a:cubicBezTo>
                  <a:pt x="571" y="7499"/>
                  <a:pt x="577" y="7960"/>
                  <a:pt x="571" y="8409"/>
                </a:cubicBezTo>
                <a:cubicBezTo>
                  <a:pt x="567" y="8702"/>
                  <a:pt x="550" y="8989"/>
                  <a:pt x="546" y="9277"/>
                </a:cubicBezTo>
                <a:cubicBezTo>
                  <a:pt x="535" y="10149"/>
                  <a:pt x="571" y="11016"/>
                  <a:pt x="571" y="11881"/>
                </a:cubicBezTo>
                <a:cubicBezTo>
                  <a:pt x="571" y="12076"/>
                  <a:pt x="553" y="12264"/>
                  <a:pt x="546" y="12452"/>
                </a:cubicBezTo>
                <a:cubicBezTo>
                  <a:pt x="531" y="12825"/>
                  <a:pt x="526" y="13201"/>
                  <a:pt x="521" y="13568"/>
                </a:cubicBezTo>
                <a:cubicBezTo>
                  <a:pt x="516" y="13946"/>
                  <a:pt x="522" y="14318"/>
                  <a:pt x="471" y="14684"/>
                </a:cubicBezTo>
                <a:cubicBezTo>
                  <a:pt x="461" y="14758"/>
                  <a:pt x="451" y="14834"/>
                  <a:pt x="446" y="14908"/>
                </a:cubicBezTo>
                <a:cubicBezTo>
                  <a:pt x="430" y="15154"/>
                  <a:pt x="445" y="15402"/>
                  <a:pt x="496" y="15627"/>
                </a:cubicBezTo>
                <a:cubicBezTo>
                  <a:pt x="506" y="15670"/>
                  <a:pt x="513" y="15799"/>
                  <a:pt x="546" y="15825"/>
                </a:cubicBezTo>
                <a:cubicBezTo>
                  <a:pt x="611" y="15876"/>
                  <a:pt x="616" y="15857"/>
                  <a:pt x="695" y="15875"/>
                </a:cubicBezTo>
                <a:cubicBezTo>
                  <a:pt x="768" y="15892"/>
                  <a:pt x="835" y="15858"/>
                  <a:pt x="893" y="15850"/>
                </a:cubicBezTo>
                <a:cubicBezTo>
                  <a:pt x="985" y="15837"/>
                  <a:pt x="1035" y="15822"/>
                  <a:pt x="1116" y="15801"/>
                </a:cubicBezTo>
                <a:cubicBezTo>
                  <a:pt x="1160" y="15790"/>
                  <a:pt x="1214" y="15760"/>
                  <a:pt x="1265" y="15751"/>
                </a:cubicBezTo>
                <a:cubicBezTo>
                  <a:pt x="1364" y="15733"/>
                  <a:pt x="1465" y="15746"/>
                  <a:pt x="1563" y="15726"/>
                </a:cubicBezTo>
                <a:cubicBezTo>
                  <a:pt x="1615" y="15715"/>
                  <a:pt x="1670" y="15705"/>
                  <a:pt x="1712" y="15677"/>
                </a:cubicBezTo>
                <a:cubicBezTo>
                  <a:pt x="1751" y="15677"/>
                  <a:pt x="1749" y="15666"/>
                  <a:pt x="1687" y="15627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82920" y="1901880"/>
            <a:ext cx="357120" cy="3616200"/>
          </a:xfrm>
          <a:custGeom>
            <a:avLst/>
            <a:gdLst/>
            <a:ahLst/>
            <a:rect l="l" t="t" r="r" b="b"/>
            <a:pathLst>
              <a:path w="993" h="10047">
                <a:moveTo>
                  <a:pt x="7888" y="5283"/>
                </a:moveTo>
                <a:cubicBezTo>
                  <a:pt x="7808" y="5319"/>
                  <a:pt x="7788" y="5281"/>
                  <a:pt x="7714" y="5333"/>
                </a:cubicBezTo>
                <a:cubicBezTo>
                  <a:pt x="7674" y="5361"/>
                  <a:pt x="7644" y="5399"/>
                  <a:pt x="7615" y="5432"/>
                </a:cubicBezTo>
                <a:cubicBezTo>
                  <a:pt x="7577" y="5476"/>
                  <a:pt x="7541" y="5527"/>
                  <a:pt x="7516" y="5581"/>
                </a:cubicBezTo>
                <a:cubicBezTo>
                  <a:pt x="7493" y="5632"/>
                  <a:pt x="7458" y="5726"/>
                  <a:pt x="7441" y="5779"/>
                </a:cubicBezTo>
                <a:cubicBezTo>
                  <a:pt x="7425" y="5828"/>
                  <a:pt x="7399" y="5884"/>
                  <a:pt x="7392" y="5928"/>
                </a:cubicBezTo>
                <a:cubicBezTo>
                  <a:pt x="7376" y="6030"/>
                  <a:pt x="7389" y="6126"/>
                  <a:pt x="7367" y="6226"/>
                </a:cubicBezTo>
                <a:cubicBezTo>
                  <a:pt x="7353" y="6288"/>
                  <a:pt x="7329" y="6331"/>
                  <a:pt x="7317" y="6400"/>
                </a:cubicBezTo>
                <a:cubicBezTo>
                  <a:pt x="7310" y="6442"/>
                  <a:pt x="7299" y="6495"/>
                  <a:pt x="7293" y="6548"/>
                </a:cubicBezTo>
                <a:cubicBezTo>
                  <a:pt x="7264" y="6808"/>
                  <a:pt x="7257" y="7094"/>
                  <a:pt x="7243" y="7342"/>
                </a:cubicBezTo>
                <a:cubicBezTo>
                  <a:pt x="7236" y="7455"/>
                  <a:pt x="7215" y="7583"/>
                  <a:pt x="7218" y="7689"/>
                </a:cubicBezTo>
                <a:cubicBezTo>
                  <a:pt x="7220" y="7769"/>
                  <a:pt x="7241" y="7818"/>
                  <a:pt x="7243" y="7888"/>
                </a:cubicBezTo>
                <a:cubicBezTo>
                  <a:pt x="7258" y="8401"/>
                  <a:pt x="7238" y="8946"/>
                  <a:pt x="7193" y="9426"/>
                </a:cubicBezTo>
                <a:cubicBezTo>
                  <a:pt x="7184" y="9525"/>
                  <a:pt x="7181" y="9636"/>
                  <a:pt x="7169" y="9723"/>
                </a:cubicBezTo>
                <a:cubicBezTo>
                  <a:pt x="7155" y="9825"/>
                  <a:pt x="7150" y="9918"/>
                  <a:pt x="7144" y="10021"/>
                </a:cubicBezTo>
                <a:cubicBezTo>
                  <a:pt x="7133" y="10191"/>
                  <a:pt x="7140" y="10352"/>
                  <a:pt x="7119" y="10517"/>
                </a:cubicBezTo>
                <a:cubicBezTo>
                  <a:pt x="7101" y="10657"/>
                  <a:pt x="7069" y="10801"/>
                  <a:pt x="7045" y="10939"/>
                </a:cubicBezTo>
                <a:cubicBezTo>
                  <a:pt x="7034" y="11002"/>
                  <a:pt x="7029" y="11053"/>
                  <a:pt x="7020" y="11112"/>
                </a:cubicBezTo>
                <a:cubicBezTo>
                  <a:pt x="7007" y="11197"/>
                  <a:pt x="7000" y="11281"/>
                  <a:pt x="6995" y="11361"/>
                </a:cubicBezTo>
                <a:cubicBezTo>
                  <a:pt x="6988" y="11474"/>
                  <a:pt x="6983" y="11575"/>
                  <a:pt x="6970" y="11683"/>
                </a:cubicBezTo>
                <a:cubicBezTo>
                  <a:pt x="6964" y="11731"/>
                  <a:pt x="6947" y="11767"/>
                  <a:pt x="6945" y="11807"/>
                </a:cubicBezTo>
                <a:cubicBezTo>
                  <a:pt x="6938" y="11935"/>
                  <a:pt x="6935" y="12054"/>
                  <a:pt x="6921" y="12179"/>
                </a:cubicBezTo>
                <a:cubicBezTo>
                  <a:pt x="6911" y="12263"/>
                  <a:pt x="6901" y="12343"/>
                  <a:pt x="6896" y="12427"/>
                </a:cubicBezTo>
                <a:cubicBezTo>
                  <a:pt x="6857" y="13087"/>
                  <a:pt x="6644" y="14557"/>
                  <a:pt x="6921" y="15131"/>
                </a:cubicBezTo>
                <a:cubicBezTo>
                  <a:pt x="6966" y="15225"/>
                  <a:pt x="7035" y="15270"/>
                  <a:pt x="7119" y="15304"/>
                </a:cubicBezTo>
                <a:cubicBezTo>
                  <a:pt x="7170" y="15325"/>
                  <a:pt x="7208" y="15321"/>
                  <a:pt x="7268" y="15329"/>
                </a:cubicBezTo>
                <a:cubicBezTo>
                  <a:pt x="7333" y="15337"/>
                  <a:pt x="7443" y="15306"/>
                  <a:pt x="7466" y="15304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468720" y="274320"/>
            <a:ext cx="961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l in the table below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C8H18(l) +__ O2(g)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___CO2(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H2O(g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600200"/>
          <a:ext cx="8229600" cy="4492800"/>
        </p:xfrm>
        <a:graphic>
          <a:graphicData uri="http://schemas.openxmlformats.org/drawingml/2006/table">
            <a:tbl>
              <a:tblPr/>
              <a:tblGrid>
                <a:gridCol w="2090160"/>
                <a:gridCol w="2007720"/>
                <a:gridCol w="216000"/>
                <a:gridCol w="2041200"/>
                <a:gridCol w="187452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 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541440" y="274320"/>
            <a:ext cx="96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l in the table below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 C8H18(l) + ___O2(g)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___CO2(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H2O(g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1600200"/>
          <a:ext cx="8229600" cy="4492800"/>
        </p:xfrm>
        <a:graphic>
          <a:graphicData uri="http://schemas.openxmlformats.org/drawingml/2006/table">
            <a:tbl>
              <a:tblPr/>
              <a:tblGrid>
                <a:gridCol w="2090160"/>
                <a:gridCol w="2007720"/>
                <a:gridCol w="216000"/>
                <a:gridCol w="2041200"/>
                <a:gridCol w="187452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 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2T01:24:25Z</dcterms:created>
  <dc:creator> </dc:creator>
  <dc:description/>
  <dc:language>en-US</dc:language>
  <cp:lastModifiedBy>nbdoe</cp:lastModifiedBy>
  <dcterms:modified xsi:type="dcterms:W3CDTF">2008-01-10T14:52:09Z</dcterms:modified>
  <cp:revision>6</cp:revision>
  <dc:subject/>
  <dc:title>6.2      Gases    Avogadro’s Theory and Molar Volume</dc:title>
</cp:coreProperties>
</file>